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F00-54B8-4F0F-9A84-7CBBDD8F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468-5358-462E-ACBD-B10F3544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0A4-1A0A-4E8F-853D-B90275FD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8A0-5889-4842-A973-1EDD93EE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DCD-F107-41FD-8F48-EF46FC6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705-DA48-431F-8040-0C38BCE8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277-3E8B-4B5C-B9CC-EA9E4795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AD8-F81D-42A3-95F0-1B402FDB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602-A117-4DD1-ADF1-F6D6141E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C9F-2AB8-4296-97CD-B069EEA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327-0488-440A-9CBF-10A1444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6B4-A8E9-4D2E-A52C-88E77229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2650-473C-493D-B326-F2B11DFB15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4"/>
          <p:cNvSpPr/>
          <p:nvPr/>
        </p:nvSpPr>
        <p:spPr>
          <a:xfrm>
            <a:off x="44280" y="55976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近づいてきた時、外で竜巻のようすを観察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3"/>
          <p:cNvSpPr/>
          <p:nvPr/>
        </p:nvSpPr>
        <p:spPr>
          <a:xfrm>
            <a:off x="115920" y="16992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アンケ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104760" y="49320"/>
            <a:ext cx="11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4"/>
          <p:cNvSpPr/>
          <p:nvPr/>
        </p:nvSpPr>
        <p:spPr>
          <a:xfrm>
            <a:off x="0" y="7714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4"/>
          <p:cNvSpPr/>
          <p:nvPr/>
        </p:nvSpPr>
        <p:spPr>
          <a:xfrm>
            <a:off x="441360" y="692280"/>
            <a:ext cx="14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06"/>
          <p:cNvSpPr/>
          <p:nvPr/>
        </p:nvSpPr>
        <p:spPr>
          <a:xfrm>
            <a:off x="44280" y="15840"/>
            <a:ext cx="2060640" cy="63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"/>
          <p:cNvSpPr/>
          <p:nvPr/>
        </p:nvSpPr>
        <p:spPr>
          <a:xfrm>
            <a:off x="2205000" y="33984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   番　名前（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0"/>
          <p:cNvSpPr/>
          <p:nvPr/>
        </p:nvSpPr>
        <p:spPr>
          <a:xfrm>
            <a:off x="2565360" y="19368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くみ　　　 ばん　　なま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グループ化 10"/>
          <p:cNvGrpSpPr/>
          <p:nvPr/>
        </p:nvGrpSpPr>
        <p:grpSpPr>
          <a:xfrm>
            <a:off x="44280" y="1204920"/>
            <a:ext cx="6713640" cy="896760"/>
            <a:chOff x="44280" y="1204920"/>
            <a:chExt cx="6713640" cy="896760"/>
          </a:xfrm>
        </p:grpSpPr>
        <p:sp>
          <p:nvSpPr>
            <p:cNvPr id="50" name="テキスト ボックス 4"/>
            <p:cNvSpPr/>
            <p:nvPr/>
          </p:nvSpPr>
          <p:spPr>
            <a:xfrm>
              <a:off x="44280" y="1204920"/>
              <a:ext cx="6713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とはどのようなものか知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88640" y="177984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よく知っている　　すこし知っている　　どちらでもない　　あまり知らない　　知ら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線コネクタ 118"/>
            <p:cNvSpPr/>
            <p:nvPr/>
          </p:nvSpPr>
          <p:spPr>
            <a:xfrm>
              <a:off x="188640" y="2101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テキスト ボックス 40"/>
            <p:cNvSpPr/>
            <p:nvPr/>
          </p:nvSpPr>
          <p:spPr>
            <a:xfrm>
              <a:off x="214560" y="126180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 </a:t>
              </a: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                                                                        し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テキスト ボックス 4"/>
            <p:cNvSpPr/>
            <p:nvPr/>
          </p:nvSpPr>
          <p:spPr>
            <a:xfrm>
              <a:off x="202680" y="1712880"/>
              <a:ext cx="6480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グループ化 9"/>
          <p:cNvGrpSpPr/>
          <p:nvPr/>
        </p:nvGrpSpPr>
        <p:grpSpPr>
          <a:xfrm>
            <a:off x="44280" y="2332080"/>
            <a:ext cx="6813720" cy="846000"/>
            <a:chOff x="44280" y="2332080"/>
            <a:chExt cx="6813720" cy="846000"/>
          </a:xfrm>
        </p:grpSpPr>
        <p:sp>
          <p:nvSpPr>
            <p:cNvPr id="56" name="テキスト ボックス 4"/>
            <p:cNvSpPr/>
            <p:nvPr/>
          </p:nvSpPr>
          <p:spPr>
            <a:xfrm>
              <a:off x="44280" y="240336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でどのような被害がでるかを知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テキスト ボックス 40"/>
            <p:cNvSpPr/>
            <p:nvPr/>
          </p:nvSpPr>
          <p:spPr>
            <a:xfrm>
              <a:off x="232560" y="233208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　　　　　　　　　　　　ひ  がい                                     し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テキスト ボックス 4"/>
            <p:cNvSpPr/>
            <p:nvPr/>
          </p:nvSpPr>
          <p:spPr>
            <a:xfrm>
              <a:off x="188640" y="285588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よく知っている　　すこし知っている　　どちらでもない　　あまり知らない　　知ら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テキスト ボックス 4"/>
            <p:cNvSpPr/>
            <p:nvPr/>
          </p:nvSpPr>
          <p:spPr>
            <a:xfrm>
              <a:off x="203040" y="2789280"/>
              <a:ext cx="6480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線コネクタ 41"/>
            <p:cNvSpPr/>
            <p:nvPr/>
          </p:nvSpPr>
          <p:spPr>
            <a:xfrm>
              <a:off x="188640" y="31780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グループ化 11"/>
          <p:cNvGrpSpPr/>
          <p:nvPr/>
        </p:nvGrpSpPr>
        <p:grpSpPr>
          <a:xfrm>
            <a:off x="44280" y="3408480"/>
            <a:ext cx="6813720" cy="833400"/>
            <a:chOff x="44280" y="3408480"/>
            <a:chExt cx="6813720" cy="833400"/>
          </a:xfrm>
        </p:grpSpPr>
        <p:sp>
          <p:nvSpPr>
            <p:cNvPr id="62" name="テキスト ボックス 40"/>
            <p:cNvSpPr/>
            <p:nvPr/>
          </p:nvSpPr>
          <p:spPr>
            <a:xfrm>
              <a:off x="232560" y="340848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  はっ せい　　  　                 　ひ　　　　　　　　　　 　　                                            き　  　　　　　　　　　　　　　　　　　　　　  し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テキスト ボックス 4"/>
            <p:cNvSpPr/>
            <p:nvPr/>
          </p:nvSpPr>
          <p:spPr>
            <a:xfrm>
              <a:off x="44280" y="346860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発生しやすい日には、どのようなことに気をつければよいのか知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テキスト ボックス 4"/>
            <p:cNvSpPr/>
            <p:nvPr/>
          </p:nvSpPr>
          <p:spPr>
            <a:xfrm>
              <a:off x="188640" y="392040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よく知っている　　すこし知っている　　どちらでもない　　あまり知らない　　知ら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テキスト ボックス 4"/>
            <p:cNvSpPr/>
            <p:nvPr/>
          </p:nvSpPr>
          <p:spPr>
            <a:xfrm>
              <a:off x="203040" y="3853440"/>
              <a:ext cx="6480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線コネクタ 46"/>
            <p:cNvSpPr/>
            <p:nvPr/>
          </p:nvSpPr>
          <p:spPr>
            <a:xfrm>
              <a:off x="188640" y="42418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グループ化 7"/>
          <p:cNvGrpSpPr/>
          <p:nvPr/>
        </p:nvGrpSpPr>
        <p:grpSpPr>
          <a:xfrm>
            <a:off x="44280" y="4471920"/>
            <a:ext cx="6813720" cy="833400"/>
            <a:chOff x="44280" y="4471920"/>
            <a:chExt cx="6813720" cy="833400"/>
          </a:xfrm>
        </p:grpSpPr>
        <p:sp>
          <p:nvSpPr>
            <p:cNvPr id="68" name="テキスト ボックス 4"/>
            <p:cNvSpPr/>
            <p:nvPr/>
          </p:nvSpPr>
          <p:spPr>
            <a:xfrm>
              <a:off x="44280" y="453204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④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近づいてきた時、何をすればよいのか知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テキスト ボックス 40"/>
            <p:cNvSpPr/>
            <p:nvPr/>
          </p:nvSpPr>
          <p:spPr>
            <a:xfrm>
              <a:off x="232560" y="447192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ちか　　　　　　　　　　  　とき　  　なに　　　　　　  　　　　　　　　　　　  　 し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テキスト ボックス 4"/>
            <p:cNvSpPr/>
            <p:nvPr/>
          </p:nvSpPr>
          <p:spPr>
            <a:xfrm>
              <a:off x="188640" y="498384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よく知っている　　すこし知っている　　どちらでもない　　あまり知らない　　知ら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テキスト ボックス 4"/>
            <p:cNvSpPr/>
            <p:nvPr/>
          </p:nvSpPr>
          <p:spPr>
            <a:xfrm>
              <a:off x="203040" y="4916880"/>
              <a:ext cx="6480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線コネクタ 51"/>
            <p:cNvSpPr/>
            <p:nvPr/>
          </p:nvSpPr>
          <p:spPr>
            <a:xfrm>
              <a:off x="188640" y="53053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テキスト ボックス 40"/>
          <p:cNvSpPr/>
          <p:nvPr/>
        </p:nvSpPr>
        <p:spPr>
          <a:xfrm>
            <a:off x="233280" y="5537160"/>
            <a:ext cx="612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まき　　　ちか　　　　　　　　　　  　とき　  　そと　　  たつ まき                                    かん さつ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189000" y="604836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210960" y="598176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線コネクタ 56"/>
          <p:cNvSpPr/>
          <p:nvPr/>
        </p:nvSpPr>
        <p:spPr>
          <a:xfrm>
            <a:off x="189000" y="63705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グループ化 14"/>
          <p:cNvGrpSpPr/>
          <p:nvPr/>
        </p:nvGrpSpPr>
        <p:grpSpPr>
          <a:xfrm>
            <a:off x="44280" y="6600960"/>
            <a:ext cx="6813720" cy="847440"/>
            <a:chOff x="44280" y="6600960"/>
            <a:chExt cx="6813720" cy="847440"/>
          </a:xfrm>
        </p:grpSpPr>
        <p:sp>
          <p:nvSpPr>
            <p:cNvPr id="78" name="テキスト ボックス 4"/>
            <p:cNvSpPr/>
            <p:nvPr/>
          </p:nvSpPr>
          <p:spPr>
            <a:xfrm>
              <a:off x="44280" y="666108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⑥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近づいてきた時、どんな種類の建物でもよいので、建物の中に入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テキスト ボックス 40"/>
            <p:cNvSpPr/>
            <p:nvPr/>
          </p:nvSpPr>
          <p:spPr>
            <a:xfrm>
              <a:off x="232560" y="660096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ちか　　　　　　　  　　　　とき　　　  　　　　　　しゅ るい　     たて もの　　　　　                                   たて もの　　  なか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テキスト ボックス 4"/>
            <p:cNvSpPr/>
            <p:nvPr/>
          </p:nvSpPr>
          <p:spPr>
            <a:xfrm>
              <a:off x="188640" y="711324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そう思う　　ややそう思う　　どちらでもない　　あまりそう思わない　　そう思わ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テキスト ボックス 4"/>
            <p:cNvSpPr/>
            <p:nvPr/>
          </p:nvSpPr>
          <p:spPr>
            <a:xfrm>
              <a:off x="214560" y="7046280"/>
              <a:ext cx="6480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  おも　                                       おも　　　　　　　　　　　　　　　　　　　　　　　　　　　　　　　　　　おも　　　　　　　　　　　　　　おも　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線コネクタ 61"/>
            <p:cNvSpPr/>
            <p:nvPr/>
          </p:nvSpPr>
          <p:spPr>
            <a:xfrm>
              <a:off x="188640" y="74484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グループ化 13"/>
          <p:cNvGrpSpPr/>
          <p:nvPr/>
        </p:nvGrpSpPr>
        <p:grpSpPr>
          <a:xfrm>
            <a:off x="44280" y="7678800"/>
            <a:ext cx="6813720" cy="833400"/>
            <a:chOff x="44280" y="7678800"/>
            <a:chExt cx="6813720" cy="833400"/>
          </a:xfrm>
        </p:grpSpPr>
        <p:sp>
          <p:nvSpPr>
            <p:cNvPr id="84" name="テキスト ボックス 4"/>
            <p:cNvSpPr/>
            <p:nvPr/>
          </p:nvSpPr>
          <p:spPr>
            <a:xfrm>
              <a:off x="44280" y="773892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⑦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近づいてきた時、建物の中ならば、どの場所にいてもよい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テキスト ボックス 40"/>
            <p:cNvSpPr/>
            <p:nvPr/>
          </p:nvSpPr>
          <p:spPr>
            <a:xfrm>
              <a:off x="232560" y="767880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ちか　　　　  　　　　　　　とき　　  たて もの  　   なか　　　   　　　　　　　　　　　ば  しょ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テキスト ボックス 4"/>
            <p:cNvSpPr/>
            <p:nvPr/>
          </p:nvSpPr>
          <p:spPr>
            <a:xfrm>
              <a:off x="188640" y="819072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そう思う　　ややそう思う　　どちらでもない　　あまりそう思わない　　そう思わ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テキスト ボックス 4"/>
            <p:cNvSpPr/>
            <p:nvPr/>
          </p:nvSpPr>
          <p:spPr>
            <a:xfrm>
              <a:off x="218520" y="8123760"/>
              <a:ext cx="6480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  おも　                                       おも　　　　　　　　　　　　　　　　　　　　　　　　　　　　　　　　　　おも　　　　　　　　　　　　　　おも　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線コネクタ 67"/>
            <p:cNvSpPr/>
            <p:nvPr/>
          </p:nvSpPr>
          <p:spPr>
            <a:xfrm>
              <a:off x="188640" y="85122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グループ化 2"/>
          <p:cNvGrpSpPr/>
          <p:nvPr/>
        </p:nvGrpSpPr>
        <p:grpSpPr>
          <a:xfrm>
            <a:off x="44280" y="8742240"/>
            <a:ext cx="6813720" cy="835200"/>
            <a:chOff x="44280" y="8742240"/>
            <a:chExt cx="6813720" cy="835200"/>
          </a:xfrm>
        </p:grpSpPr>
        <p:sp>
          <p:nvSpPr>
            <p:cNvPr id="90" name="テキスト ボックス 4"/>
            <p:cNvSpPr/>
            <p:nvPr/>
          </p:nvSpPr>
          <p:spPr>
            <a:xfrm>
              <a:off x="44280" y="880236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⑧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近づいてきた時、建物の中の安全な場所にいるならば、何もしなくてよい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テキスト ボックス 40"/>
            <p:cNvSpPr/>
            <p:nvPr/>
          </p:nvSpPr>
          <p:spPr>
            <a:xfrm>
              <a:off x="232560" y="874224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ちか　　　　　　　　　　　  とき　　  たて もの　　  なか        あん ぜん　　　 ば  しょ　　  　　　　　                      　  なに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テキスト ボックス 4"/>
            <p:cNvSpPr/>
            <p:nvPr/>
          </p:nvSpPr>
          <p:spPr>
            <a:xfrm>
              <a:off x="188640" y="925524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そう思う　　ややそう思う　　どちらでもない　　あまりそう思わない　　そう思わ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テキスト ボックス 4"/>
            <p:cNvSpPr/>
            <p:nvPr/>
          </p:nvSpPr>
          <p:spPr>
            <a:xfrm>
              <a:off x="218520" y="9188280"/>
              <a:ext cx="6480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  おも　                                       おも　　　　　　　　　　　　　　　　　　　　　　　　　　　　　　　　　　おも　　　　　　　　　　　　　　おも　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線コネクタ 72"/>
            <p:cNvSpPr/>
            <p:nvPr/>
          </p:nvSpPr>
          <p:spPr>
            <a:xfrm>
              <a:off x="188640" y="95774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正方形/長方形 23"/>
          <p:cNvSpPr/>
          <p:nvPr/>
        </p:nvSpPr>
        <p:spPr>
          <a:xfrm>
            <a:off x="5187960" y="9864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dcterms:modified xsi:type="dcterms:W3CDTF">2016-05-23T02:06:04Z</dcterms:modified>
  <cp:revision>106</cp:revision>
  <dc:subject/>
  <dc:title>スライド 1</dc:title>
</cp:coreProperties>
</file>