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E28-07C8-48ED-BA96-8514C298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174-71F0-46BB-9240-241533A8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702-8434-47D3-AC5C-1AC41FF0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4EA-8FEE-429B-A211-DDD97C92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51C-CE67-49FF-9FFB-58790BCA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F01-C34E-4A44-B482-C1AC5402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323-B445-49BC-9857-8FC059C2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64C-40CE-4213-B690-A69D48F5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466-082C-4611-8743-289EDC8B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804-2F5C-4C49-8F95-B63CE9AB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3B3-2686-4256-AEBE-C3CDFFC4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77A-6B13-4AF4-BB23-32A20D94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344160"/>
            <a:ext cx="21715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A635-F231-45E1-85C4-BBB4728797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3"/>
          <p:cNvSpPr/>
          <p:nvPr/>
        </p:nvSpPr>
        <p:spPr>
          <a:xfrm>
            <a:off x="71280" y="176040"/>
            <a:ext cx="27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訓練をふりか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-3240" y="6100920"/>
            <a:ext cx="61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．あなたは訓練がはじまった時に、どこにいました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4280" y="6408720"/>
            <a:ext cx="6769440" cy="43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1"/>
          <p:cNvSpPr/>
          <p:nvPr/>
        </p:nvSpPr>
        <p:spPr>
          <a:xfrm>
            <a:off x="131760" y="55440"/>
            <a:ext cx="113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くんれ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34"/>
          <p:cNvSpPr/>
          <p:nvPr/>
        </p:nvSpPr>
        <p:spPr>
          <a:xfrm>
            <a:off x="1052640" y="6018120"/>
            <a:ext cx="2022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くんれん　　　　　　　　　　　　　　  とき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テキスト ボックス 4"/>
          <p:cNvSpPr/>
          <p:nvPr/>
        </p:nvSpPr>
        <p:spPr>
          <a:xfrm>
            <a:off x="-3240" y="6964200"/>
            <a:ext cx="68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．あなたはその時、どのように身を守りましたか。なぜ、そうしたのです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63"/>
          <p:cNvSpPr/>
          <p:nvPr/>
        </p:nvSpPr>
        <p:spPr>
          <a:xfrm>
            <a:off x="44280" y="7272360"/>
            <a:ext cx="6769440" cy="266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34"/>
          <p:cNvSpPr/>
          <p:nvPr/>
        </p:nvSpPr>
        <p:spPr>
          <a:xfrm>
            <a:off x="1413000" y="6875640"/>
            <a:ext cx="3268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き　　　　　　　　　　　　　　   み　　　ま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0" y="1347840"/>
            <a:ext cx="494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自分にあてはまるところに○をつけましょ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4"/>
          <p:cNvSpPr/>
          <p:nvPr/>
        </p:nvSpPr>
        <p:spPr>
          <a:xfrm>
            <a:off x="404640" y="1265400"/>
            <a:ext cx="1474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ぶ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23"/>
          <p:cNvSpPr/>
          <p:nvPr/>
        </p:nvSpPr>
        <p:spPr>
          <a:xfrm>
            <a:off x="5581800" y="989316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宇都宮地方気象台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4"/>
          <p:cNvSpPr/>
          <p:nvPr/>
        </p:nvSpPr>
        <p:spPr>
          <a:xfrm>
            <a:off x="44280" y="1722600"/>
            <a:ext cx="671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発生（接近）の放送を、だまって静かに聞くことができ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4"/>
          <p:cNvSpPr/>
          <p:nvPr/>
        </p:nvSpPr>
        <p:spPr>
          <a:xfrm>
            <a:off x="44280" y="259884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発生（接近）の放送を聞いた時、何をしたらよいか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自分で考える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とができ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"/>
          <p:cNvSpPr/>
          <p:nvPr/>
        </p:nvSpPr>
        <p:spPr>
          <a:xfrm>
            <a:off x="44280" y="3444840"/>
            <a:ext cx="63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安全に身を守る行動が、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自分で考えて、すばやく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でき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4"/>
          <p:cNvSpPr/>
          <p:nvPr/>
        </p:nvSpPr>
        <p:spPr>
          <a:xfrm>
            <a:off x="44280" y="4329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安全な場所に移動する時、「お・か・し・も・ち」のルールが守れ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4"/>
          <p:cNvSpPr/>
          <p:nvPr/>
        </p:nvSpPr>
        <p:spPr>
          <a:xfrm>
            <a:off x="44280" y="20988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106"/>
          <p:cNvSpPr/>
          <p:nvPr/>
        </p:nvSpPr>
        <p:spPr>
          <a:xfrm>
            <a:off x="44280" y="22320"/>
            <a:ext cx="2737080" cy="554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3"/>
          <p:cNvSpPr/>
          <p:nvPr/>
        </p:nvSpPr>
        <p:spPr>
          <a:xfrm>
            <a:off x="1862280" y="900000"/>
            <a:ext cx="49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 組　　 番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40"/>
          <p:cNvSpPr/>
          <p:nvPr/>
        </p:nvSpPr>
        <p:spPr>
          <a:xfrm>
            <a:off x="2232000" y="8222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        くみ　　       　 ばん　        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23"/>
          <p:cNvSpPr/>
          <p:nvPr/>
        </p:nvSpPr>
        <p:spPr>
          <a:xfrm>
            <a:off x="5340240" y="23760"/>
            <a:ext cx="1355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竜巻対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後学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正方形/長方形 116"/>
          <p:cNvSpPr/>
          <p:nvPr/>
        </p:nvSpPr>
        <p:spPr>
          <a:xfrm>
            <a:off x="44280" y="1650960"/>
            <a:ext cx="6769440" cy="346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線コネクタ 118"/>
          <p:cNvSpPr/>
          <p:nvPr/>
        </p:nvSpPr>
        <p:spPr>
          <a:xfrm>
            <a:off x="71280" y="2514600"/>
            <a:ext cx="674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40"/>
          <p:cNvSpPr/>
          <p:nvPr/>
        </p:nvSpPr>
        <p:spPr>
          <a:xfrm>
            <a:off x="260280" y="1682640"/>
            <a:ext cx="5041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   はっせい　　　 せっきん　　　   　  ほうそう　　　 　　　　　　　　　　　  しず　　　　　  き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0"/>
          <p:cNvSpPr/>
          <p:nvPr/>
        </p:nvSpPr>
        <p:spPr>
          <a:xfrm>
            <a:off x="276120" y="256860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はっせい　　　 せっきん　　　  　　ほうそう　　    き　　 　　　  とき        なに　　　　　　　　　　　　　　　　   　じぶん　　　かん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40"/>
          <p:cNvSpPr/>
          <p:nvPr/>
        </p:nvSpPr>
        <p:spPr>
          <a:xfrm>
            <a:off x="303120" y="341136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 　　 あんぜん　　     み　 　　まも　　　こうどう　　　　　　じぶん　　 　かんが　　　　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40"/>
          <p:cNvSpPr/>
          <p:nvPr/>
        </p:nvSpPr>
        <p:spPr>
          <a:xfrm>
            <a:off x="260280" y="428940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あんぜん　　　  ばしょ  　　　   いどう　　　　　  とき　　　　　　　　　　　 　　　　　　　　　　　　　　　　　　　　　　　　  　　　 　　まも　　　　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線コネクタ 130"/>
          <p:cNvSpPr/>
          <p:nvPr/>
        </p:nvSpPr>
        <p:spPr>
          <a:xfrm>
            <a:off x="71280" y="3378240"/>
            <a:ext cx="674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線コネクタ 131"/>
          <p:cNvSpPr/>
          <p:nvPr/>
        </p:nvSpPr>
        <p:spPr>
          <a:xfrm>
            <a:off x="71280" y="4243320"/>
            <a:ext cx="674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4"/>
          <p:cNvSpPr/>
          <p:nvPr/>
        </p:nvSpPr>
        <p:spPr>
          <a:xfrm>
            <a:off x="44280" y="296388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44280" y="382752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"/>
          <p:cNvSpPr/>
          <p:nvPr/>
        </p:nvSpPr>
        <p:spPr>
          <a:xfrm>
            <a:off x="44280" y="469116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"/>
          <p:cNvSpPr/>
          <p:nvPr/>
        </p:nvSpPr>
        <p:spPr>
          <a:xfrm>
            <a:off x="-3240" y="5237280"/>
            <a:ext cx="686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竜巻発生（接近）の放送を聞いた時、竜巻はどのあたりにいると思いました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49"/>
          <p:cNvSpPr/>
          <p:nvPr/>
        </p:nvSpPr>
        <p:spPr>
          <a:xfrm>
            <a:off x="44280" y="5543640"/>
            <a:ext cx="6769440" cy="439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34"/>
          <p:cNvSpPr/>
          <p:nvPr/>
        </p:nvSpPr>
        <p:spPr>
          <a:xfrm>
            <a:off x="333360" y="5154480"/>
            <a:ext cx="633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 はっせい　　 　せっきん　　　　　 ほうそう　　 　き　　　　　 とき　　　たつまき　　　　　　　　　　　　　　　　　　　　　　  　お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42840" y="5627520"/>
            <a:ext cx="67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ものすごく近いところ　・　少し離れたところ　・　遠いところ　・　わからなかっ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テキスト ボックス 40"/>
          <p:cNvSpPr/>
          <p:nvPr/>
        </p:nvSpPr>
        <p:spPr>
          <a:xfrm>
            <a:off x="1052640" y="5560920"/>
            <a:ext cx="4319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 </a:t>
            </a: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ちか　　 　　　　　　　　　　　　　　　すこ　　  はな　　　　　　　　　　　　　　　　　　　  とお　　　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線コネクタ 54"/>
          <p:cNvSpPr/>
          <p:nvPr/>
        </p:nvSpPr>
        <p:spPr>
          <a:xfrm>
            <a:off x="69840" y="8569440"/>
            <a:ext cx="674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正方形/長方形 12"/>
          <p:cNvSpPr/>
          <p:nvPr/>
        </p:nvSpPr>
        <p:spPr>
          <a:xfrm>
            <a:off x="154080" y="727236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どのよう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正方形/長方形 56"/>
          <p:cNvSpPr/>
          <p:nvPr/>
        </p:nvSpPr>
        <p:spPr>
          <a:xfrm>
            <a:off x="102960" y="8569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な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cp:lastPrinted>2016-05-19T05:03:03Z</cp:lastPrinted>
  <dcterms:modified xsi:type="dcterms:W3CDTF">2016-05-23T02:01:56Z</dcterms:modified>
  <cp:revision>108</cp:revision>
  <dc:subject/>
  <dc:title>スライド 1</dc:title>
</cp:coreProperties>
</file>