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7234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39440"/>
            <a:ext cx="261144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31C-044F-40B6-9FD6-D8C72EE696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062080" y="739800"/>
            <a:ext cx="261144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20B-44AC-49E5-AE45-9A0F4BEF82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062080" y="739800"/>
            <a:ext cx="261144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78DE-ABD1-4911-8B5C-15F712F31F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CAB-1DA8-49CE-A65E-4BB39ABF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480-5976-47A1-9659-D8539010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33E-89A0-4064-A1B4-18EAC18D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EAD-5B33-4A57-BDE7-447E9262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1F1-5414-46FA-A53F-E1E13BC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F65-EABB-4DFC-BBE9-19F3FF6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478-86CB-4DE6-9D39-4C585442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77F-1580-46C3-876E-DA423199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0600"/>
            <a:ext cx="61722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5D6-A459-4707-B383-7BA115B6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34B-4D7F-44B4-AFF0-B88EF97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A83-70A9-4E68-9FE2-CC2F6EC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FD4-201E-4A3F-8294-6F99B94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0440"/>
            <a:ext cx="2171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AD1-30E6-440F-8052-F1D6C3A7D9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4280" y="7494480"/>
          <a:ext cx="6769440" cy="114948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94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280" y="5921280"/>
          <a:ext cx="6769440" cy="114300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3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4280" y="4299120"/>
          <a:ext cx="6769440" cy="116352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11635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280" y="1547640"/>
          <a:ext cx="6769440" cy="230508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2305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14" descr="\\yohousv\班・係\防災班\調査係\印刷物原稿\新規リーフレット（H24作成）\イラスト\13_Tornado.jpg"/>
          <p:cNvPicPr/>
          <p:nvPr/>
        </p:nvPicPr>
        <p:blipFill>
          <a:blip r:embed="rId1"/>
          <a:stretch/>
        </p:blipFill>
        <p:spPr>
          <a:xfrm>
            <a:off x="38160" y="1546200"/>
            <a:ext cx="12938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正方形/長方形 23"/>
          <p:cNvSpPr/>
          <p:nvPr/>
        </p:nvSpPr>
        <p:spPr>
          <a:xfrm>
            <a:off x="5187960" y="9540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3"/>
          <p:cNvSpPr/>
          <p:nvPr/>
        </p:nvSpPr>
        <p:spPr>
          <a:xfrm>
            <a:off x="44280" y="1494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の正体を知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8"/>
          <p:cNvSpPr/>
          <p:nvPr/>
        </p:nvSpPr>
        <p:spPr>
          <a:xfrm>
            <a:off x="90360" y="6336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　     しょうたい　　     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52"/>
          <p:cNvSpPr/>
          <p:nvPr/>
        </p:nvSpPr>
        <p:spPr>
          <a:xfrm>
            <a:off x="0" y="0"/>
            <a:ext cx="278136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0"/>
          <p:cNvSpPr/>
          <p:nvPr/>
        </p:nvSpPr>
        <p:spPr>
          <a:xfrm>
            <a:off x="237492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0"/>
          <p:cNvSpPr/>
          <p:nvPr/>
        </p:nvSpPr>
        <p:spPr>
          <a:xfrm>
            <a:off x="1434960" y="1836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1"/>
          <p:cNvSpPr/>
          <p:nvPr/>
        </p:nvSpPr>
        <p:spPr>
          <a:xfrm>
            <a:off x="2414520" y="1852560"/>
            <a:ext cx="439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発生源であ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積乱雲（入道雲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視覚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-85680" y="1209600"/>
            <a:ext cx="67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はどんな姿をしてい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7"/>
          <p:cNvSpPr/>
          <p:nvPr/>
        </p:nvSpPr>
        <p:spPr>
          <a:xfrm>
            <a:off x="184320" y="1147680"/>
            <a:ext cx="604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   　　　　　　　　　  すが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1432080" y="4789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36"/>
          <p:cNvSpPr/>
          <p:nvPr/>
        </p:nvSpPr>
        <p:spPr>
          <a:xfrm>
            <a:off x="2421000" y="4522680"/>
            <a:ext cx="43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によって起こる様々な被害を理解する。「大きな竜巻では、被害が大きくなり、命に関わるような災害になること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37"/>
          <p:cNvSpPr/>
          <p:nvPr/>
        </p:nvSpPr>
        <p:spPr>
          <a:xfrm>
            <a:off x="1440000" y="5005440"/>
            <a:ext cx="53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飛んできた物でガラスが割れる、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）屋根や物置が飛ばされる、３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建物や電柱、大きな木や看板、自動販売機が倒れ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、４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車がひっくり返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、５）人間も飛ばされる、６）停電する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被害の範囲は、数キロから数十キロに及ぶこともあ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0"/>
          <p:cNvSpPr/>
          <p:nvPr/>
        </p:nvSpPr>
        <p:spPr>
          <a:xfrm>
            <a:off x="1432080" y="4514760"/>
            <a:ext cx="117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-11160" y="3962520"/>
            <a:ext cx="61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よって、どんな被害が起き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37"/>
          <p:cNvSpPr/>
          <p:nvPr/>
        </p:nvSpPr>
        <p:spPr>
          <a:xfrm>
            <a:off x="227160" y="3882960"/>
            <a:ext cx="561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　            　　　　　　 　　　　　　　　ひがい 　　　 　お　　　　　　 　　　  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0"/>
          <p:cNvSpPr/>
          <p:nvPr/>
        </p:nvSpPr>
        <p:spPr>
          <a:xfrm>
            <a:off x="1413000" y="77756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2411280" y="7800840"/>
            <a:ext cx="405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が発生する予兆（気象）現象を理解し、視覚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1422360" y="79804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7"/>
          <p:cNvSpPr/>
          <p:nvPr/>
        </p:nvSpPr>
        <p:spPr>
          <a:xfrm>
            <a:off x="2421000" y="8010360"/>
            <a:ext cx="424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空を観察して、天気の変化を予測することの大切さ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36"/>
          <p:cNvSpPr/>
          <p:nvPr/>
        </p:nvSpPr>
        <p:spPr>
          <a:xfrm>
            <a:off x="2421000" y="4808520"/>
            <a:ext cx="43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によって起こる被害の範囲を理解・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0"/>
          <p:cNvSpPr/>
          <p:nvPr/>
        </p:nvSpPr>
        <p:spPr>
          <a:xfrm>
            <a:off x="1434960" y="2052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1"/>
          <p:cNvSpPr/>
          <p:nvPr/>
        </p:nvSpPr>
        <p:spPr>
          <a:xfrm>
            <a:off x="2414520" y="2070000"/>
            <a:ext cx="412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の特徴を理解する。竜巻とつむじ風の違い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37"/>
          <p:cNvSpPr/>
          <p:nvPr/>
        </p:nvSpPr>
        <p:spPr>
          <a:xfrm>
            <a:off x="1434960" y="2776680"/>
            <a:ext cx="537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１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ろうと状の雲になっている（積乱雲から垂れ下がる）、２）物やごみが巻き上げられ飛んで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つむじ風は、晴天の日にうずまくように起きる強い風で竜巻ではない。テントなどを巻き上げる危険があ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２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土煙が近づいてくる（動いてくる）　、２）「ゴーッ」という音がする、３）耳鳴りがする（耳が痛い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３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竜巻の平均速度は時速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km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（自動車くらい）、大きな竜巻は時速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km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（特急電車）くらいの速さで移動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２）大きな竜巻の周囲で小さな竜巻が発生することがある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は短時間で通過する、見ていると危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40"/>
          <p:cNvSpPr/>
          <p:nvPr/>
        </p:nvSpPr>
        <p:spPr>
          <a:xfrm>
            <a:off x="1413000" y="6199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41"/>
          <p:cNvSpPr/>
          <p:nvPr/>
        </p:nvSpPr>
        <p:spPr>
          <a:xfrm>
            <a:off x="2446200" y="647532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天気予報や気象情報を入手し、気象の変化を理解して行動する習慣を身に付けさせ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3"/>
          <p:cNvSpPr/>
          <p:nvPr/>
        </p:nvSpPr>
        <p:spPr>
          <a:xfrm>
            <a:off x="1422360" y="64450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37"/>
          <p:cNvSpPr/>
          <p:nvPr/>
        </p:nvSpPr>
        <p:spPr>
          <a:xfrm>
            <a:off x="2433600" y="6229440"/>
            <a:ext cx="43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積乱雲や竜巻の発生が予想される時、天気予報で伝えるキーワード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6" descr=""/>
          <p:cNvPicPr/>
          <p:nvPr/>
        </p:nvPicPr>
        <p:blipFill>
          <a:blip r:embed="rId2"/>
          <a:stretch/>
        </p:blipFill>
        <p:spPr>
          <a:xfrm>
            <a:off x="87480" y="6013440"/>
            <a:ext cx="1253880" cy="981000"/>
          </a:xfrm>
          <a:prstGeom prst="rect">
            <a:avLst/>
          </a:prstGeom>
          <a:ln w="0">
            <a:noFill/>
          </a:ln>
        </p:spPr>
      </p:pic>
      <p:sp>
        <p:nvSpPr>
          <p:cNvPr id="83" name="テキスト ボックス 37"/>
          <p:cNvSpPr/>
          <p:nvPr/>
        </p:nvSpPr>
        <p:spPr>
          <a:xfrm>
            <a:off x="1407960" y="8267760"/>
            <a:ext cx="54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竜巻の予兆現象「低く黒い雲（積乱雲）が接近する、雷（雷光が見えたり雷鳴が聞こえる）、急に冷たい風が吹き出す、急な雨やひょうが降る」などの気象現象が発生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-60480" y="5576760"/>
            <a:ext cx="67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を事前に知るには、どうしたらよいで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7"/>
          <p:cNvSpPr/>
          <p:nvPr/>
        </p:nvSpPr>
        <p:spPr>
          <a:xfrm>
            <a:off x="189000" y="5508720"/>
            <a:ext cx="3774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  　   はっせい　　 　　　　　　　  　　  てんき　　　　　 じぜん　 　　 　し　　　　　　 　　　  　　　　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4"/>
          <p:cNvSpPr/>
          <p:nvPr/>
        </p:nvSpPr>
        <p:spPr>
          <a:xfrm>
            <a:off x="-68400" y="716436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には、どのようなことに気をつければよいです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37"/>
          <p:cNvSpPr/>
          <p:nvPr/>
        </p:nvSpPr>
        <p:spPr>
          <a:xfrm>
            <a:off x="192240" y="7093080"/>
            <a:ext cx="613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はっせい　　 　　　   　　　　   てんき　　　　　　　 　　　　　　　　　　　　　　　　　　　　　　き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37"/>
          <p:cNvSpPr/>
          <p:nvPr/>
        </p:nvSpPr>
        <p:spPr>
          <a:xfrm>
            <a:off x="1413000" y="6711840"/>
            <a:ext cx="54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竜巻キーワード「大気の状態が不安定（積乱雲の発達）・天気の急変に注意 （急な大雨、雷、ひょう）・突風や竜巻に注意」２）気象情報「竜巻注意情報、雷注意報」、３）ニュースやインターネットなどで気象情報を入手でき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"/>
          <p:cNvSpPr/>
          <p:nvPr/>
        </p:nvSpPr>
        <p:spPr>
          <a:xfrm>
            <a:off x="12600" y="9253440"/>
            <a:ext cx="68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なぜ怖いのか、竜巻に気づくためにはどうしたらよいのか復習しましょ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37"/>
          <p:cNvSpPr/>
          <p:nvPr/>
        </p:nvSpPr>
        <p:spPr>
          <a:xfrm>
            <a:off x="19080" y="9204480"/>
            <a:ext cx="613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　　　    こわ　 　　    　　　　   たつまき　  　  き　　　　　　　　　　　　　　  　　　　　　　　　　　　　　　　　　　　　ふくしゅう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19"/>
          <p:cNvSpPr/>
          <p:nvPr/>
        </p:nvSpPr>
        <p:spPr>
          <a:xfrm>
            <a:off x="85680" y="8796240"/>
            <a:ext cx="8222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C:\Users\JMA6100\Desktop\和泉小学校資料\イラスト(完成データから切り出し）\07_Gust.jpg"/>
          <p:cNvPicPr/>
          <p:nvPr/>
        </p:nvPicPr>
        <p:blipFill>
          <a:blip r:embed="rId3"/>
          <a:stretch/>
        </p:blipFill>
        <p:spPr>
          <a:xfrm>
            <a:off x="46080" y="7496280"/>
            <a:ext cx="1278000" cy="116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2" descr="C:\Users\JMA1F80\Desktop\__ 1.png"/>
          <p:cNvPicPr/>
          <p:nvPr/>
        </p:nvPicPr>
        <p:blipFill>
          <a:blip r:embed="rId4"/>
          <a:stretch/>
        </p:blipFill>
        <p:spPr>
          <a:xfrm>
            <a:off x="19080" y="2700360"/>
            <a:ext cx="127800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50760" y="4302000"/>
            <a:ext cx="1273320" cy="1135080"/>
          </a:xfrm>
          <a:prstGeom prst="rect">
            <a:avLst/>
          </a:prstGeom>
          <a:ln w="0">
            <a:noFill/>
          </a:ln>
        </p:spPr>
      </p:pic>
      <p:sp>
        <p:nvSpPr>
          <p:cNvPr id="95" name="テキスト ボックス 40"/>
          <p:cNvSpPr/>
          <p:nvPr/>
        </p:nvSpPr>
        <p:spPr>
          <a:xfrm>
            <a:off x="1434960" y="2268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41"/>
          <p:cNvSpPr/>
          <p:nvPr/>
        </p:nvSpPr>
        <p:spPr>
          <a:xfrm>
            <a:off x="2414520" y="2286000"/>
            <a:ext cx="412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の移動するスピードはとても速く、竜巻の大きさによって早さが異なる（一定ではない）ことを理解・イメージする。大きな積乱雲の下では、竜巻が複数発生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つだけではない）する場合があること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61"/>
          <p:cNvSpPr/>
          <p:nvPr/>
        </p:nvSpPr>
        <p:spPr>
          <a:xfrm>
            <a:off x="1341360" y="154764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大きな積乱雲（入道雲）の下で発生する、はげしい空気のうずま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62"/>
          <p:cNvSpPr/>
          <p:nvPr/>
        </p:nvSpPr>
        <p:spPr>
          <a:xfrm>
            <a:off x="1341360" y="42958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いろいろな物が飛んできて、建物（窓やかべ）をこわす。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63"/>
          <p:cNvSpPr/>
          <p:nvPr/>
        </p:nvSpPr>
        <p:spPr>
          <a:xfrm>
            <a:off x="1339920" y="594036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（朝の）天気予報を見る。ニュースや気象情報に注意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64"/>
          <p:cNvSpPr/>
          <p:nvPr/>
        </p:nvSpPr>
        <p:spPr>
          <a:xfrm>
            <a:off x="1341360" y="74962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空の様子や、周りの変化に注意して行動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4280" y="5921280"/>
          <a:ext cx="6769440" cy="114300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3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14" descr="\\yohousv\班・係\防災班\調査係\印刷物原稿\新規リーフレット（H24作成）\イラスト\13_Tornado.jpg"/>
          <p:cNvPicPr/>
          <p:nvPr/>
        </p:nvPicPr>
        <p:blipFill>
          <a:blip r:embed="rId1"/>
          <a:stretch/>
        </p:blipFill>
        <p:spPr>
          <a:xfrm>
            <a:off x="38160" y="1546200"/>
            <a:ext cx="1293840" cy="1154160"/>
          </a:xfrm>
          <a:prstGeom prst="rect">
            <a:avLst/>
          </a:prstGeom>
          <a:ln w="0">
            <a:noFill/>
          </a:ln>
        </p:spPr>
      </p:pic>
      <p:sp>
        <p:nvSpPr>
          <p:cNvPr id="103" name="正方形/長方形 23"/>
          <p:cNvSpPr/>
          <p:nvPr/>
        </p:nvSpPr>
        <p:spPr>
          <a:xfrm>
            <a:off x="5187960" y="9540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"/>
          <p:cNvSpPr/>
          <p:nvPr/>
        </p:nvSpPr>
        <p:spPr>
          <a:xfrm>
            <a:off x="44280" y="1494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の正体を知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48"/>
          <p:cNvSpPr/>
          <p:nvPr/>
        </p:nvSpPr>
        <p:spPr>
          <a:xfrm>
            <a:off x="90360" y="6336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　     しょうたい　　     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正方形/長方形 52"/>
          <p:cNvSpPr/>
          <p:nvPr/>
        </p:nvSpPr>
        <p:spPr>
          <a:xfrm>
            <a:off x="0" y="0"/>
            <a:ext cx="278136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0"/>
          <p:cNvSpPr/>
          <p:nvPr/>
        </p:nvSpPr>
        <p:spPr>
          <a:xfrm>
            <a:off x="237492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4"/>
          <p:cNvSpPr/>
          <p:nvPr/>
        </p:nvSpPr>
        <p:spPr>
          <a:xfrm>
            <a:off x="-85680" y="1209600"/>
            <a:ext cx="67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はどんな姿をしてい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37"/>
          <p:cNvSpPr/>
          <p:nvPr/>
        </p:nvSpPr>
        <p:spPr>
          <a:xfrm>
            <a:off x="184320" y="1147680"/>
            <a:ext cx="604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   　　　　　　　　　  すが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4"/>
          <p:cNvSpPr/>
          <p:nvPr/>
        </p:nvSpPr>
        <p:spPr>
          <a:xfrm>
            <a:off x="-11160" y="3962520"/>
            <a:ext cx="61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よって、どんな被害が起き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7"/>
          <p:cNvSpPr/>
          <p:nvPr/>
        </p:nvSpPr>
        <p:spPr>
          <a:xfrm>
            <a:off x="227160" y="3882960"/>
            <a:ext cx="561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　            　　　　　　 　　　　　　　　ひがい 　　　 　お　　　　　　 　　　  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6" descr=""/>
          <p:cNvPicPr/>
          <p:nvPr/>
        </p:nvPicPr>
        <p:blipFill>
          <a:blip r:embed="rId2"/>
          <a:stretch/>
        </p:blipFill>
        <p:spPr>
          <a:xfrm>
            <a:off x="87480" y="6013440"/>
            <a:ext cx="1253880" cy="981000"/>
          </a:xfrm>
          <a:prstGeom prst="rect">
            <a:avLst/>
          </a:prstGeom>
          <a:ln w="0">
            <a:noFill/>
          </a:ln>
        </p:spPr>
      </p:pic>
      <p:sp>
        <p:nvSpPr>
          <p:cNvPr id="115" name="テキスト ボックス 4"/>
          <p:cNvSpPr/>
          <p:nvPr/>
        </p:nvSpPr>
        <p:spPr>
          <a:xfrm>
            <a:off x="-60480" y="5576760"/>
            <a:ext cx="67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を事前に知るには、どうしたらよいで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189000" y="5508720"/>
            <a:ext cx="3774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  　   はっせい　　 　　　　　　　  　　  てんき　　　　　 じぜん　 　　 　し　　　　　　 　　　  　　　　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"/>
          <p:cNvSpPr/>
          <p:nvPr/>
        </p:nvSpPr>
        <p:spPr>
          <a:xfrm>
            <a:off x="-68400" y="716436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には、どのようなことに気をつければよいです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37"/>
          <p:cNvSpPr/>
          <p:nvPr/>
        </p:nvSpPr>
        <p:spPr>
          <a:xfrm>
            <a:off x="192240" y="7093080"/>
            <a:ext cx="613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はっせい　　 　　　   　　　　   てんき　　　　　　　 　　　　　　　　　　　　　　　　　　　　　　き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4"/>
          <p:cNvSpPr/>
          <p:nvPr/>
        </p:nvSpPr>
        <p:spPr>
          <a:xfrm>
            <a:off x="12600" y="9253440"/>
            <a:ext cx="68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なぜ怖いのか、竜巻に気づくためにはどうしたらよいのか復習しましょ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37"/>
          <p:cNvSpPr/>
          <p:nvPr/>
        </p:nvSpPr>
        <p:spPr>
          <a:xfrm>
            <a:off x="19080" y="9204480"/>
            <a:ext cx="613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　　　    こわ　 　　    　　　　   たつまき　  　  き　　　　　　　　　　　　　　  　　　　　　　　　　　　　　　　　　　　　ふくしゅう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19"/>
          <p:cNvSpPr/>
          <p:nvPr/>
        </p:nvSpPr>
        <p:spPr>
          <a:xfrm>
            <a:off x="85680" y="8796240"/>
            <a:ext cx="8222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C:\Users\JMA6100\Desktop\和泉小学校資料\イラスト(完成データから切り出し）\07_Gust.jpg"/>
          <p:cNvPicPr/>
          <p:nvPr/>
        </p:nvPicPr>
        <p:blipFill>
          <a:blip r:embed="rId3"/>
          <a:stretch/>
        </p:blipFill>
        <p:spPr>
          <a:xfrm>
            <a:off x="46080" y="7496280"/>
            <a:ext cx="1278000" cy="116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" descr="C:\Users\JMA1F80\Desktop\__ 1.png"/>
          <p:cNvPicPr/>
          <p:nvPr/>
        </p:nvPicPr>
        <p:blipFill>
          <a:blip r:embed="rId4"/>
          <a:stretch/>
        </p:blipFill>
        <p:spPr>
          <a:xfrm>
            <a:off x="19080" y="2700360"/>
            <a:ext cx="1278000" cy="114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5"/>
          <a:stretch/>
        </p:blipFill>
        <p:spPr>
          <a:xfrm>
            <a:off x="50760" y="4302000"/>
            <a:ext cx="127332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44280" y="7494480"/>
          <a:ext cx="6769440" cy="114948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94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4280" y="4299120"/>
          <a:ext cx="6769440" cy="116352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11635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4280" y="1547640"/>
          <a:ext cx="6769440" cy="230508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2305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12-21T10:05:28Z</cp:lastPrinted>
  <dcterms:modified xsi:type="dcterms:W3CDTF">2016-12-21T10:08:44Z</dcterms:modified>
  <cp:revision>303</cp:revision>
  <dc:subject/>
  <dc:title>スライド 1</dc:title>
</cp:coreProperties>
</file>