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9320" y="1233360"/>
            <a:ext cx="249696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9F6-76C9-4F97-81F5-8670B5EFB8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19320" y="1233360"/>
            <a:ext cx="2496960" cy="3329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2AF3-8286-439D-9C8A-01ED3E1E6E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E79-5CA0-4800-8746-50167BB2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88E-4434-4338-904D-8E3AC14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E48-3F2C-4797-8268-F1E6E979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DA0-AD73-4E85-A9B1-E29E7E16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147-EA57-42D8-8688-3F609F61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B08-921B-4421-B5FE-07D88E29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6DE-E34D-4EBF-A90B-7171198D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C73-757F-4E56-993F-9C51705E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F09-689B-448D-83FC-DD1484B3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C43-9806-4E5F-8E25-EA9C9044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9B4-1FA4-450C-99EE-CC42FB7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38B-840A-4EF3-8532-647AEF7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B408-DE7F-4383-B92A-2346B8AD53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36"/>
          <p:cNvSpPr/>
          <p:nvPr/>
        </p:nvSpPr>
        <p:spPr>
          <a:xfrm>
            <a:off x="44280" y="6708600"/>
            <a:ext cx="6786720" cy="2256120"/>
          </a:xfrm>
          <a:prstGeom prst="rect">
            <a:avLst/>
          </a:prstGeom>
          <a:solidFill>
            <a:srgbClr val="dcffd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4"/>
          <p:cNvSpPr/>
          <p:nvPr/>
        </p:nvSpPr>
        <p:spPr>
          <a:xfrm>
            <a:off x="44280" y="4140360"/>
            <a:ext cx="6786720" cy="2160360"/>
          </a:xfrm>
          <a:prstGeom prst="rect">
            <a:avLst/>
          </a:prstGeom>
          <a:solidFill>
            <a:srgbClr val="e1e1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0" y="6480"/>
            <a:ext cx="685800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竜巻防災教育プログラム </a:t>
            </a: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『</a:t>
            </a:r>
            <a:r>
              <a:rPr b="0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単元構成</a:t>
            </a: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5"/>
          <p:cNvSpPr/>
          <p:nvPr/>
        </p:nvSpPr>
        <p:spPr>
          <a:xfrm>
            <a:off x="44280" y="1741320"/>
            <a:ext cx="6786720" cy="2038680"/>
          </a:xfrm>
          <a:prstGeom prst="rect">
            <a:avLst/>
          </a:prstGeom>
          <a:solidFill>
            <a:srgbClr val="fde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189000" y="1525680"/>
            <a:ext cx="2808360" cy="49068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１ ・・・ 事前学習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189000" y="3924360"/>
            <a:ext cx="2879640" cy="490680"/>
          </a:xfrm>
          <a:prstGeom prst="horizontalScroll">
            <a:avLst>
              <a:gd name="adj" fmla="val 12500"/>
            </a:avLst>
          </a:prstGeom>
          <a:solidFill>
            <a:srgbClr val="b3b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２ ・・・ 事前学習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15920" y="636480"/>
            <a:ext cx="6642000" cy="34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70c0"/>
                </a:solidFill>
                <a:latin typeface="HG丸ｺﾞｼｯｸM-PRO"/>
                <a:ea typeface="HG丸ｺﾞｼｯｸM-PRO"/>
              </a:rPr>
              <a:t>竜巻が発生しやすい気象現象（前兆現象）や竜巻がもたらす被害・影響等について正しい知識を習得し、竜巻発生を認知した際の適切な判断、迅速な対応行動を、</a:t>
            </a:r>
            <a:r>
              <a:rPr b="0" lang="en-US" sz="1400" spc="-1" strike="noStrike">
                <a:solidFill>
                  <a:srgbClr val="0070c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400" spc="-1" strike="noStrike">
                <a:solidFill>
                  <a:srgbClr val="0070c0"/>
                </a:solidFill>
                <a:latin typeface="HG丸ｺﾞｼｯｸM-PRO"/>
                <a:ea typeface="HG丸ｺﾞｼｯｸM-PRO"/>
              </a:rPr>
              <a:t>ステップで実践することにより、竜巻への対応能力を向上させ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9"/>
          <p:cNvSpPr/>
          <p:nvPr/>
        </p:nvSpPr>
        <p:spPr>
          <a:xfrm>
            <a:off x="1268280" y="248436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竜巻自体の特徴および被害・影響を知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竜巻発生に関する情報収集の仕方、予兆の特徴を知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3"/>
          <p:cNvSpPr/>
          <p:nvPr/>
        </p:nvSpPr>
        <p:spPr>
          <a:xfrm>
            <a:off x="1268280" y="4884840"/>
            <a:ext cx="532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それぞれの場所での、竜巻からの適切な身の守り方を学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竜巻の接近に応じた、適切な対応・避難行動を理解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竜巻に気付いた時に、してはいけないことを学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1"/>
          <p:cNvSpPr/>
          <p:nvPr/>
        </p:nvSpPr>
        <p:spPr>
          <a:xfrm>
            <a:off x="189000" y="2484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7"/>
          <p:cNvSpPr/>
          <p:nvPr/>
        </p:nvSpPr>
        <p:spPr>
          <a:xfrm>
            <a:off x="1268280" y="2050920"/>
            <a:ext cx="46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竜巻がなぜ怖いのか、その正体を知ろ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11"/>
          <p:cNvSpPr/>
          <p:nvPr/>
        </p:nvSpPr>
        <p:spPr>
          <a:xfrm>
            <a:off x="189000" y="20937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30"/>
          <p:cNvSpPr/>
          <p:nvPr/>
        </p:nvSpPr>
        <p:spPr>
          <a:xfrm>
            <a:off x="1268280" y="4475160"/>
            <a:ext cx="49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竜巻から自分の身を守る方法を考えよ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1"/>
          <p:cNvSpPr/>
          <p:nvPr/>
        </p:nvSpPr>
        <p:spPr>
          <a:xfrm>
            <a:off x="189000" y="491184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1"/>
          <p:cNvSpPr/>
          <p:nvPr/>
        </p:nvSpPr>
        <p:spPr>
          <a:xfrm>
            <a:off x="189000" y="449892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1"/>
          <p:cNvSpPr/>
          <p:nvPr/>
        </p:nvSpPr>
        <p:spPr>
          <a:xfrm>
            <a:off x="189000" y="7488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1"/>
          <p:cNvSpPr/>
          <p:nvPr/>
        </p:nvSpPr>
        <p:spPr>
          <a:xfrm>
            <a:off x="189000" y="70851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1"/>
          <p:cNvSpPr/>
          <p:nvPr/>
        </p:nvSpPr>
        <p:spPr>
          <a:xfrm>
            <a:off x="189000" y="297648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指導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1"/>
          <p:cNvSpPr/>
          <p:nvPr/>
        </p:nvSpPr>
        <p:spPr>
          <a:xfrm>
            <a:off x="1268280" y="3009960"/>
            <a:ext cx="537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１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１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11"/>
          <p:cNvSpPr/>
          <p:nvPr/>
        </p:nvSpPr>
        <p:spPr>
          <a:xfrm>
            <a:off x="189000" y="551340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計画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11"/>
          <p:cNvSpPr/>
          <p:nvPr/>
        </p:nvSpPr>
        <p:spPr>
          <a:xfrm>
            <a:off x="1268280" y="5527800"/>
            <a:ext cx="55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２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1"/>
          <p:cNvSpPr/>
          <p:nvPr/>
        </p:nvSpPr>
        <p:spPr>
          <a:xfrm>
            <a:off x="189000" y="8172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指導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1"/>
          <p:cNvSpPr/>
          <p:nvPr/>
        </p:nvSpPr>
        <p:spPr>
          <a:xfrm>
            <a:off x="1268280" y="8142120"/>
            <a:ext cx="52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実践訓練・事後学習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実践訓練プログラム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ショート訓練 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1"/>
          <p:cNvSpPr/>
          <p:nvPr/>
        </p:nvSpPr>
        <p:spPr>
          <a:xfrm>
            <a:off x="1268280" y="7451640"/>
            <a:ext cx="548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竜巻に関する事前学習を生かし、竜巻接近の緊急放送を聞いた時に自分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判断で自分の身を守る対応行動を習得さ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実践訓練（ショート訓練）での自分の対応行動を振り返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0"/>
          <p:cNvSpPr/>
          <p:nvPr/>
        </p:nvSpPr>
        <p:spPr>
          <a:xfrm>
            <a:off x="1268280" y="70722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際に身を守って、自分の行動を振り返ろ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89000" y="6491160"/>
            <a:ext cx="3693960" cy="49068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３ ・・・実践訓練・事後学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23"/>
          <p:cNvSpPr/>
          <p:nvPr/>
        </p:nvSpPr>
        <p:spPr>
          <a:xfrm>
            <a:off x="5373720" y="8931240"/>
            <a:ext cx="15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下矢印 38"/>
          <p:cNvSpPr/>
          <p:nvPr/>
        </p:nvSpPr>
        <p:spPr>
          <a:xfrm>
            <a:off x="5805360" y="3490920"/>
            <a:ext cx="981360" cy="93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下矢印 43"/>
          <p:cNvSpPr/>
          <p:nvPr/>
        </p:nvSpPr>
        <p:spPr>
          <a:xfrm>
            <a:off x="5805360" y="6156360"/>
            <a:ext cx="98136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3b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11"/>
          <p:cNvSpPr/>
          <p:nvPr/>
        </p:nvSpPr>
        <p:spPr>
          <a:xfrm>
            <a:off x="187200" y="3357720"/>
            <a:ext cx="10098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11"/>
          <p:cNvSpPr/>
          <p:nvPr/>
        </p:nvSpPr>
        <p:spPr>
          <a:xfrm>
            <a:off x="1268280" y="336060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１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・ワークシート・・・「竜巻の正体を知ろう！」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11"/>
          <p:cNvSpPr/>
          <p:nvPr/>
        </p:nvSpPr>
        <p:spPr>
          <a:xfrm>
            <a:off x="189000" y="5892840"/>
            <a:ext cx="10094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11"/>
          <p:cNvSpPr/>
          <p:nvPr/>
        </p:nvSpPr>
        <p:spPr>
          <a:xfrm>
            <a:off x="1270080" y="58960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２・ワークシート・・・「竜巻から自分の身を守ろう！」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11"/>
          <p:cNvSpPr/>
          <p:nvPr/>
        </p:nvSpPr>
        <p:spPr>
          <a:xfrm>
            <a:off x="189000" y="8586720"/>
            <a:ext cx="10094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11"/>
          <p:cNvSpPr/>
          <p:nvPr/>
        </p:nvSpPr>
        <p:spPr>
          <a:xfrm>
            <a:off x="1270080" y="858852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実践訓練・事後学習・ワークシート・・・「訓練をふりかえろう！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4-12-09T00:05:55Z</cp:lastPrinted>
  <dcterms:modified xsi:type="dcterms:W3CDTF">2017-01-24T04:42:26Z</dcterms:modified>
  <cp:revision>153</cp:revision>
  <dc:subject/>
  <dc:title>スライド 1</dc:title>
</cp:coreProperties>
</file>