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3F1-B0FA-4542-8CFD-F0A6E30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325-EC51-4AD5-A1BC-FFBB4AD0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012-2C7D-4CE0-9BD4-22BC0BCC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4DE-3A12-47DD-9EED-8AFDB73D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29A-1FC8-4FFF-A866-BFDE1481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BA4-B9DD-45C7-8323-653C755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26E-ADC9-4D1D-A862-F95D05E1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51A-6FD4-40F0-B1FE-5FA1AA0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225-26EE-4175-93E9-DE8FBFEA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879-D692-42F8-BD92-01E11E9E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446-347E-458B-BFCA-FDB3FAC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A48-4329-41A7-84D2-F5E8E11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3B77-3979-4DFD-B9FD-E8A362B2CF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4"/>
          <p:cNvSpPr/>
          <p:nvPr/>
        </p:nvSpPr>
        <p:spPr>
          <a:xfrm>
            <a:off x="44280" y="1204920"/>
            <a:ext cx="671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活火山とは、どのようなもの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44280" y="55976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⑤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近くで火山が噴火した時、どのような身を守る行動をとればよい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3"/>
          <p:cNvSpPr/>
          <p:nvPr/>
        </p:nvSpPr>
        <p:spPr>
          <a:xfrm>
            <a:off x="71280" y="154080"/>
            <a:ext cx="206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火山アンケ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4"/>
          <p:cNvSpPr/>
          <p:nvPr/>
        </p:nvSpPr>
        <p:spPr>
          <a:xfrm>
            <a:off x="0" y="7714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06"/>
          <p:cNvSpPr/>
          <p:nvPr/>
        </p:nvSpPr>
        <p:spPr>
          <a:xfrm>
            <a:off x="0" y="0"/>
            <a:ext cx="2060640" cy="63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3"/>
          <p:cNvSpPr/>
          <p:nvPr/>
        </p:nvSpPr>
        <p:spPr>
          <a:xfrm>
            <a:off x="2205000" y="3398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   番　名前（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160200" y="172728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線コネクタ 118"/>
          <p:cNvSpPr/>
          <p:nvPr/>
        </p:nvSpPr>
        <p:spPr>
          <a:xfrm>
            <a:off x="189000" y="210168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280" y="240336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火山の噴火とは、どのようなもの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線コネクタ 41"/>
          <p:cNvSpPr/>
          <p:nvPr/>
        </p:nvSpPr>
        <p:spPr>
          <a:xfrm>
            <a:off x="189000" y="317808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4"/>
          <p:cNvSpPr/>
          <p:nvPr/>
        </p:nvSpPr>
        <p:spPr>
          <a:xfrm>
            <a:off x="44280" y="346860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那須岳の噴火で、どのような被害がでる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46"/>
          <p:cNvSpPr/>
          <p:nvPr/>
        </p:nvSpPr>
        <p:spPr>
          <a:xfrm>
            <a:off x="189000" y="424188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44280" y="453240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那須岳が噴火するかもしれないことを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線コネクタ 51"/>
          <p:cNvSpPr/>
          <p:nvPr/>
        </p:nvSpPr>
        <p:spPr>
          <a:xfrm>
            <a:off x="189000" y="530532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コネクタ 56"/>
          <p:cNvSpPr/>
          <p:nvPr/>
        </p:nvSpPr>
        <p:spPr>
          <a:xfrm>
            <a:off x="189000" y="63705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"/>
          <p:cNvSpPr/>
          <p:nvPr/>
        </p:nvSpPr>
        <p:spPr>
          <a:xfrm>
            <a:off x="44280" y="666108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⑥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近くで火山が噴火した時、どのような場所に逃げればよい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61"/>
          <p:cNvSpPr/>
          <p:nvPr/>
        </p:nvSpPr>
        <p:spPr>
          <a:xfrm>
            <a:off x="189000" y="74484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44280" y="773892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⑦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那須岳に、噴火警報や噴火予報が出た時に、何をすればよい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線コネクタ 67"/>
          <p:cNvSpPr/>
          <p:nvPr/>
        </p:nvSpPr>
        <p:spPr>
          <a:xfrm>
            <a:off x="189000" y="85122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"/>
          <p:cNvSpPr/>
          <p:nvPr/>
        </p:nvSpPr>
        <p:spPr>
          <a:xfrm>
            <a:off x="44280" y="880272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⑧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那須岳が噴火した時、どこに逃げればよいか、地図（火山防災マップ）を見て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線コネクタ 72"/>
          <p:cNvSpPr/>
          <p:nvPr/>
        </p:nvSpPr>
        <p:spPr>
          <a:xfrm>
            <a:off x="189000" y="957744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23"/>
          <p:cNvSpPr/>
          <p:nvPr/>
        </p:nvSpPr>
        <p:spPr>
          <a:xfrm>
            <a:off x="5187960" y="9864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"/>
          <p:cNvSpPr/>
          <p:nvPr/>
        </p:nvSpPr>
        <p:spPr>
          <a:xfrm>
            <a:off x="160200" y="280836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160200" y="389880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160200" y="813600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0200" y="604836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"/>
          <p:cNvSpPr/>
          <p:nvPr/>
        </p:nvSpPr>
        <p:spPr>
          <a:xfrm>
            <a:off x="160200" y="712800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"/>
          <p:cNvSpPr/>
          <p:nvPr/>
        </p:nvSpPr>
        <p:spPr>
          <a:xfrm>
            <a:off x="160200" y="496872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4"/>
          <p:cNvSpPr/>
          <p:nvPr/>
        </p:nvSpPr>
        <p:spPr>
          <a:xfrm>
            <a:off x="160200" y="921708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く知っている　　　　すこし知っている　　　　どちらでもない　　　　あまり知らない　　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正方形/長方形 1"/>
          <p:cNvSpPr/>
          <p:nvPr/>
        </p:nvSpPr>
        <p:spPr>
          <a:xfrm>
            <a:off x="174960" y="71280"/>
            <a:ext cx="56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か　　ざ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正方形/長方形 37"/>
          <p:cNvSpPr/>
          <p:nvPr/>
        </p:nvSpPr>
        <p:spPr>
          <a:xfrm>
            <a:off x="2565360" y="264960"/>
            <a:ext cx="223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ねん   　　　　　　 くみ　　　　　　　　ばん　　　    な　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38"/>
          <p:cNvSpPr/>
          <p:nvPr/>
        </p:nvSpPr>
        <p:spPr>
          <a:xfrm>
            <a:off x="428760" y="708120"/>
            <a:ext cx="2232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じ　　ぶ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9"/>
          <p:cNvSpPr/>
          <p:nvPr/>
        </p:nvSpPr>
        <p:spPr>
          <a:xfrm>
            <a:off x="225360" y="1265400"/>
            <a:ext cx="3175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かつ 　か　  ざん　　　　　　　　　　　　　　　　　　　　　　　　　　　　　　　　　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40"/>
          <p:cNvSpPr/>
          <p:nvPr/>
        </p:nvSpPr>
        <p:spPr>
          <a:xfrm>
            <a:off x="395280" y="1673280"/>
            <a:ext cx="605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2"/>
          <p:cNvSpPr/>
          <p:nvPr/>
        </p:nvSpPr>
        <p:spPr>
          <a:xfrm>
            <a:off x="384120" y="2739960"/>
            <a:ext cx="605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43"/>
          <p:cNvSpPr/>
          <p:nvPr/>
        </p:nvSpPr>
        <p:spPr>
          <a:xfrm>
            <a:off x="384120" y="3827520"/>
            <a:ext cx="605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44"/>
          <p:cNvSpPr/>
          <p:nvPr/>
        </p:nvSpPr>
        <p:spPr>
          <a:xfrm>
            <a:off x="399960" y="5991120"/>
            <a:ext cx="605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正方形/長方形 45"/>
          <p:cNvSpPr/>
          <p:nvPr/>
        </p:nvSpPr>
        <p:spPr>
          <a:xfrm>
            <a:off x="398520" y="4923000"/>
            <a:ext cx="6057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47"/>
          <p:cNvSpPr/>
          <p:nvPr/>
        </p:nvSpPr>
        <p:spPr>
          <a:xfrm>
            <a:off x="385920" y="7061040"/>
            <a:ext cx="6057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正方形/長方形 48"/>
          <p:cNvSpPr/>
          <p:nvPr/>
        </p:nvSpPr>
        <p:spPr>
          <a:xfrm>
            <a:off x="390600" y="8085240"/>
            <a:ext cx="6057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49"/>
          <p:cNvSpPr/>
          <p:nvPr/>
        </p:nvSpPr>
        <p:spPr>
          <a:xfrm>
            <a:off x="379440" y="9151920"/>
            <a:ext cx="6057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　　し　　　　　　　　　　　　　　　　　　　　　　　　　　　  し　　　　　　　　　　　　　　　　　　　　　　　　　　　　　　　　　　　　　　　　　　　　　　　　　　　　　  　し  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237960" y="2343240"/>
            <a:ext cx="3176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か　  ざん　　　　ふん　か　　　　　　　　　　　　　　　　　　　　　　　　　　　　　　　　　　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正方形/長方形 52"/>
          <p:cNvSpPr/>
          <p:nvPr/>
        </p:nvSpPr>
        <p:spPr>
          <a:xfrm>
            <a:off x="244440" y="3405240"/>
            <a:ext cx="3832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な　　 す　 だけ　　　　ふん　 か　　　　　　　　　　　　　　　　　　　　　　　ひ　がい　　　　　　　　　　　　   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53"/>
          <p:cNvSpPr/>
          <p:nvPr/>
        </p:nvSpPr>
        <p:spPr>
          <a:xfrm>
            <a:off x="235080" y="5530680"/>
            <a:ext cx="5789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ちか　　　　　　 か    ざん　　   　ふん　 か　　　　　　　とき　　　　　　　　　　　　　　　　         み          まも 　　　　こう  どう　　　　　　　　　　　　　　　　 　　　　　   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4"/>
          <p:cNvSpPr/>
          <p:nvPr/>
        </p:nvSpPr>
        <p:spPr>
          <a:xfrm>
            <a:off x="235080" y="4465800"/>
            <a:ext cx="3832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な　　 す　 だけ　　　　ふん　 か　　　　　　　　　　　　　　　                    　　　　　　　　　　   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55"/>
          <p:cNvSpPr/>
          <p:nvPr/>
        </p:nvSpPr>
        <p:spPr>
          <a:xfrm>
            <a:off x="243000" y="6594480"/>
            <a:ext cx="5788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ちか　　　　　　 か    ざん　　   　ふん　 か　　　　　　　とき　　　　　　　　　　　　　　　　         ば　しょ　　　　　に　　　　　　　　　　　　　　 　　　　　   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方形/長方形 57"/>
          <p:cNvSpPr/>
          <p:nvPr/>
        </p:nvSpPr>
        <p:spPr>
          <a:xfrm>
            <a:off x="235080" y="7672320"/>
            <a:ext cx="6002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な　　 す　 だけ　　　　　　 ふん　 か   けい  ほう　 　　　ふん　か　　よ　  ほう　　　　　で　  　　　とき　　　　　　 なに　　　　　　　　　　　　　                　　   　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正方形/長方形 58"/>
          <p:cNvSpPr/>
          <p:nvPr/>
        </p:nvSpPr>
        <p:spPr>
          <a:xfrm>
            <a:off x="236520" y="8731080"/>
            <a:ext cx="6000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な　　 す　 だけ　　　   ふん   か        　　　　とき　　　　　　                  に　　　　　　　　　　　　　                　　   　  ち　　ず　　　　か　  ざん ぼう   さい　　　　　　　　　　　　　　　み　　　　　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dcterms:modified xsi:type="dcterms:W3CDTF">2017-06-21T09:15:03Z</dcterms:modified>
  <cp:revision>110</cp:revision>
  <dc:subject/>
  <dc:title>スライド 1</dc:title>
</cp:coreProperties>
</file>