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2A5-8D0A-4543-B7FD-C0E5F60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FA2-7C8F-469D-90B6-FE92971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384-7B42-40B6-9654-D1763CAC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8BA-9BCB-4950-A85A-B1C01D99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705-76A6-4A18-B671-859F3BB4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AEE-2B5A-4887-AAD1-E21B506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F63-69B4-4FC3-A77F-F602FE2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A78-0A09-4ADB-B2C7-1A5B0B70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6B5-A23E-411F-A013-B1EED21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1B3-111D-4E0A-A9C2-FF33333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470-3343-4019-A825-73807AE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04F-958F-498B-AF1B-08F23629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FF77-2356-48D1-A289-8B18656B58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52560" y="154080"/>
            <a:ext cx="27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訓練をふりか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-3240" y="5884920"/>
            <a:ext cx="681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あなたは訓練がはじまったときに、どこに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28440" y="6192720"/>
            <a:ext cx="6785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112680" y="73080"/>
            <a:ext cx="11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1052640" y="5805360"/>
            <a:ext cx="1473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63"/>
          <p:cNvSpPr/>
          <p:nvPr/>
        </p:nvSpPr>
        <p:spPr>
          <a:xfrm>
            <a:off x="28440" y="7291440"/>
            <a:ext cx="6785280" cy="26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0" y="13096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4"/>
          <p:cNvSpPr/>
          <p:nvPr/>
        </p:nvSpPr>
        <p:spPr>
          <a:xfrm>
            <a:off x="441360" y="123048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3"/>
          <p:cNvSpPr/>
          <p:nvPr/>
        </p:nvSpPr>
        <p:spPr>
          <a:xfrm>
            <a:off x="5581800" y="989316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44280" y="1689120"/>
            <a:ext cx="671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や放送を、だまって静かに聞く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286056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を聞いた時、何をしたらよいか考える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4280" y="491328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全な場所に移動するとき、「お・か・し・も・ち」のルールが守れ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1360" y="221148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106"/>
          <p:cNvSpPr/>
          <p:nvPr/>
        </p:nvSpPr>
        <p:spPr>
          <a:xfrm>
            <a:off x="25560" y="28440"/>
            <a:ext cx="2736720" cy="60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"/>
          <p:cNvSpPr/>
          <p:nvPr/>
        </p:nvSpPr>
        <p:spPr>
          <a:xfrm>
            <a:off x="2492280" y="900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878200" y="792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み　　     　　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>
            <a:off x="5293080" y="23760"/>
            <a:ext cx="130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３　地震対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後学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16"/>
          <p:cNvSpPr/>
          <p:nvPr/>
        </p:nvSpPr>
        <p:spPr>
          <a:xfrm>
            <a:off x="28440" y="1631880"/>
            <a:ext cx="6785280" cy="4129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118"/>
          <p:cNvSpPr/>
          <p:nvPr/>
        </p:nvSpPr>
        <p:spPr>
          <a:xfrm>
            <a:off x="44280" y="267192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0"/>
          <p:cNvSpPr/>
          <p:nvPr/>
        </p:nvSpPr>
        <p:spPr>
          <a:xfrm>
            <a:off x="333360" y="17748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　 　 　　　　　　　　      おん         ほうそう　　　　　　　   　　　　　　　しず　　　　     き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0"/>
          <p:cNvSpPr/>
          <p:nvPr/>
        </p:nvSpPr>
        <p:spPr>
          <a:xfrm>
            <a:off x="333360" y="2827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  　　                          　  おん          き　   　　　  とき         なに　 　   　　　　　　　　 　　　　　かん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441360" y="3292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0"/>
          <p:cNvSpPr/>
          <p:nvPr/>
        </p:nvSpPr>
        <p:spPr>
          <a:xfrm>
            <a:off x="260280" y="4870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んぜん 　　　ばしょ　 　   　いどう　　　　　　　　　　　　　　　   　　　　　　　　　　　　　　　　　　　　　　　　　　　　　　  　 　        まも　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441360" y="5308560"/>
            <a:ext cx="63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130"/>
          <p:cNvSpPr/>
          <p:nvPr/>
        </p:nvSpPr>
        <p:spPr>
          <a:xfrm>
            <a:off x="44280" y="37116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131"/>
          <p:cNvSpPr/>
          <p:nvPr/>
        </p:nvSpPr>
        <p:spPr>
          <a:xfrm>
            <a:off x="44280" y="475128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"/>
          <p:cNvSpPr/>
          <p:nvPr/>
        </p:nvSpPr>
        <p:spPr>
          <a:xfrm>
            <a:off x="44280" y="390204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慌てずに、自分で考えて、地震から身を守る行動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0"/>
          <p:cNvSpPr/>
          <p:nvPr/>
        </p:nvSpPr>
        <p:spPr>
          <a:xfrm>
            <a:off x="260280" y="3862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わ　　　　　　　　　 　 じぶん　　   かんが　　    　　　     じしん 　       　      み　　　まも　　　こうどう　　　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441360" y="4300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-3240" y="698040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その時、どのように身を守りましたか。なぜ、そうしたのです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4"/>
          <p:cNvSpPr/>
          <p:nvPr/>
        </p:nvSpPr>
        <p:spPr>
          <a:xfrm>
            <a:off x="1397160" y="6912000"/>
            <a:ext cx="326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き　　　　　　　　　　　　　　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52"/>
          <p:cNvSpPr/>
          <p:nvPr/>
        </p:nvSpPr>
        <p:spPr>
          <a:xfrm>
            <a:off x="154080" y="7272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どの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3"/>
          <p:cNvSpPr/>
          <p:nvPr/>
        </p:nvSpPr>
        <p:spPr>
          <a:xfrm>
            <a:off x="69840" y="8569440"/>
            <a:ext cx="674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54"/>
          <p:cNvSpPr/>
          <p:nvPr/>
        </p:nvSpPr>
        <p:spPr>
          <a:xfrm>
            <a:off x="102960" y="8569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08-19T01:16:00Z</cp:lastPrinted>
  <dcterms:modified xsi:type="dcterms:W3CDTF">2016-09-09T00:32:49Z</dcterms:modified>
  <cp:revision>99</cp:revision>
  <dc:subject/>
  <dc:title>スライド 1</dc:title>
</cp:coreProperties>
</file>