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10080625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A348-4522-4003-AE0F-AED52F69A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82660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1B50-66E1-4A95-93D3-1570D341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7DD4-8282-46E7-8F60-F25C85A2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31C5-EC87-47CE-A739-CDD4C2D4C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8441-37A3-44B6-8FDF-098077CD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988C-A5E7-4B51-80CA-E5635214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5C0F-7C4E-4E84-99ED-79D8DA55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01A6-AD6C-4790-B23C-D57AC173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404640"/>
            <a:ext cx="617220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CB7C-E3DD-4BE7-A1F3-273A552B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E2C1-CB70-45E7-A79A-9573D47E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3464-0502-46C2-A93A-DDA0CBA3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F35C-B17F-4E60-9F8D-C6824A13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344160"/>
            <a:ext cx="16002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344160"/>
            <a:ext cx="21715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344160"/>
            <a:ext cx="16002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41AD-D49C-4EE2-8ACC-EC0B017FAE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テキスト ボックス 3"/>
          <p:cNvSpPr/>
          <p:nvPr/>
        </p:nvSpPr>
        <p:spPr>
          <a:xfrm>
            <a:off x="115920" y="192240"/>
            <a:ext cx="20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地震アンケー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テキスト ボックス 4"/>
          <p:cNvSpPr/>
          <p:nvPr/>
        </p:nvSpPr>
        <p:spPr>
          <a:xfrm>
            <a:off x="0" y="77148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自分にあてはまるところに○をつけ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正方形/長方形 106"/>
          <p:cNvSpPr/>
          <p:nvPr/>
        </p:nvSpPr>
        <p:spPr>
          <a:xfrm>
            <a:off x="44280" y="49320"/>
            <a:ext cx="2060640" cy="598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3"/>
          <p:cNvSpPr/>
          <p:nvPr/>
        </p:nvSpPr>
        <p:spPr>
          <a:xfrm>
            <a:off x="2205000" y="339840"/>
            <a:ext cx="47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　　年　　組　   番　名前（　　　　　　　　　　　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線コネクタ 118"/>
          <p:cNvSpPr/>
          <p:nvPr/>
        </p:nvSpPr>
        <p:spPr>
          <a:xfrm>
            <a:off x="44280" y="3187800"/>
            <a:ext cx="6769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線コネクタ 41"/>
          <p:cNvSpPr/>
          <p:nvPr/>
        </p:nvSpPr>
        <p:spPr>
          <a:xfrm>
            <a:off x="44280" y="4280040"/>
            <a:ext cx="6769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線コネクタ 51"/>
          <p:cNvSpPr/>
          <p:nvPr/>
        </p:nvSpPr>
        <p:spPr>
          <a:xfrm>
            <a:off x="44280" y="5349960"/>
            <a:ext cx="6769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直線コネクタ 56"/>
          <p:cNvSpPr/>
          <p:nvPr/>
        </p:nvSpPr>
        <p:spPr>
          <a:xfrm>
            <a:off x="44280" y="6437160"/>
            <a:ext cx="6769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線コネクタ 61"/>
          <p:cNvSpPr/>
          <p:nvPr/>
        </p:nvSpPr>
        <p:spPr>
          <a:xfrm>
            <a:off x="44280" y="7694640"/>
            <a:ext cx="6769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4"/>
          <p:cNvSpPr/>
          <p:nvPr/>
        </p:nvSpPr>
        <p:spPr>
          <a:xfrm>
            <a:off x="0" y="89694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⑧</a:t>
            </a: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緊急地震速報や地震の揺れを感じた時、自分で考えて自分の身を守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線コネクタ 67"/>
          <p:cNvSpPr/>
          <p:nvPr/>
        </p:nvSpPr>
        <p:spPr>
          <a:xfrm>
            <a:off x="44280" y="8793000"/>
            <a:ext cx="6769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線コネクタ 72"/>
          <p:cNvSpPr/>
          <p:nvPr/>
        </p:nvSpPr>
        <p:spPr>
          <a:xfrm>
            <a:off x="44280" y="9864720"/>
            <a:ext cx="6769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正方形/長方形 23"/>
          <p:cNvSpPr/>
          <p:nvPr/>
        </p:nvSpPr>
        <p:spPr>
          <a:xfrm>
            <a:off x="5187960" y="9864720"/>
            <a:ext cx="167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宇都宮地方気象台 　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Ver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47"/>
          <p:cNvSpPr/>
          <p:nvPr/>
        </p:nvSpPr>
        <p:spPr>
          <a:xfrm>
            <a:off x="104760" y="71280"/>
            <a:ext cx="113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</a:t>
            </a: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 し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34"/>
          <p:cNvSpPr/>
          <p:nvPr/>
        </p:nvSpPr>
        <p:spPr>
          <a:xfrm>
            <a:off x="260280" y="692280"/>
            <a:ext cx="1474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　ぶん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テキスト ボックス 40"/>
          <p:cNvSpPr/>
          <p:nvPr/>
        </p:nvSpPr>
        <p:spPr>
          <a:xfrm>
            <a:off x="2573280" y="268200"/>
            <a:ext cx="2376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ねん　　      　くみ　　　      ばん　　   な   まえ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テキスト ボックス 58"/>
          <p:cNvSpPr/>
          <p:nvPr/>
        </p:nvSpPr>
        <p:spPr>
          <a:xfrm>
            <a:off x="115920" y="8886960"/>
            <a:ext cx="5761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きんきゅう じ  しん そく ほう    　  じ   しん　　   ゆ  　      　　かん    　　　  とき    　  じ   ぶん　   かんが               じ　ぶん         み　　　ま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テキスト ボックス 4"/>
          <p:cNvSpPr/>
          <p:nvPr/>
        </p:nvSpPr>
        <p:spPr>
          <a:xfrm>
            <a:off x="189000" y="2825640"/>
            <a:ext cx="64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よく知っている　　すこし知っている　　どちらでもない　　あまり知らない　　知ら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テキスト ボックス 4"/>
          <p:cNvSpPr/>
          <p:nvPr/>
        </p:nvSpPr>
        <p:spPr>
          <a:xfrm>
            <a:off x="203040" y="2759040"/>
            <a:ext cx="64803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　　 し　　　　　　　　　　　　　　　　　　　し　　　　　　　　　　　　　　　　　　　　　　　　　　　　　　　　　　　　　し　　　　　　　　　　　し                           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テキスト ボックス 4"/>
          <p:cNvSpPr/>
          <p:nvPr/>
        </p:nvSpPr>
        <p:spPr>
          <a:xfrm>
            <a:off x="189000" y="3890880"/>
            <a:ext cx="64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よく知っている　　すこし知っている　　どちらでもない　　あまり知らない　　知ら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テキスト ボックス 4"/>
          <p:cNvSpPr/>
          <p:nvPr/>
        </p:nvSpPr>
        <p:spPr>
          <a:xfrm>
            <a:off x="203040" y="3824280"/>
            <a:ext cx="64803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　　 し　　　　　　　　　　　　　　　　　　　し　　　　　　　　　　　　　　　　　　　　　　　　　　　　　　　　　　　　　し　　　　　　　　　　　し                           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テキスト ボックス 4"/>
          <p:cNvSpPr/>
          <p:nvPr/>
        </p:nvSpPr>
        <p:spPr>
          <a:xfrm>
            <a:off x="189000" y="4984920"/>
            <a:ext cx="64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よく知っている　　すこし知っている　　どちらでもない　　あまり知らない　　知ら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4"/>
          <p:cNvSpPr/>
          <p:nvPr/>
        </p:nvSpPr>
        <p:spPr>
          <a:xfrm>
            <a:off x="203040" y="4917960"/>
            <a:ext cx="64803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　　 し　　　　　　　　　　　　　　　　　　　し　　　　　　　　　　　　　　　　　　　　　　　　　　　　　　　　　　　　　し　　　　　　　　　　　し                           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4"/>
          <p:cNvSpPr/>
          <p:nvPr/>
        </p:nvSpPr>
        <p:spPr>
          <a:xfrm>
            <a:off x="0" y="446076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④</a:t>
            </a: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緊急地震速報を聞いた時、何をすればよいのか知っ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57"/>
          <p:cNvSpPr/>
          <p:nvPr/>
        </p:nvSpPr>
        <p:spPr>
          <a:xfrm>
            <a:off x="115920" y="4378320"/>
            <a:ext cx="6119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きん きゅう じ  しん そく ほう 　     き　　　　    とき        なに　　　      　                                        し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4"/>
          <p:cNvSpPr/>
          <p:nvPr/>
        </p:nvSpPr>
        <p:spPr>
          <a:xfrm>
            <a:off x="0" y="6593040"/>
            <a:ext cx="6858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⑥</a:t>
            </a: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地震が起きた時や、緊急地震速報を聞いた時、姿勢を低く、頭や体を守り、　　　揺れがおさまるまでじっと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テキスト ボックス 60"/>
          <p:cNvSpPr/>
          <p:nvPr/>
        </p:nvSpPr>
        <p:spPr>
          <a:xfrm>
            <a:off x="131760" y="6534000"/>
            <a:ext cx="6634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  しん  　    お　        　  とき       　　  きんきゅう じ  しん そく ほう   　    き　   　　    とき　　　 し  せい　 　 ひく　           あたま　  からだ      ま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テキスト ボックス 4"/>
          <p:cNvSpPr/>
          <p:nvPr/>
        </p:nvSpPr>
        <p:spPr>
          <a:xfrm>
            <a:off x="0" y="55260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⑤</a:t>
            </a: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地震が起きた時、ものが落ちてくる・倒れてくる・移動してくる場所は危険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テキスト ボックス 54"/>
          <p:cNvSpPr/>
          <p:nvPr/>
        </p:nvSpPr>
        <p:spPr>
          <a:xfrm>
            <a:off x="189000" y="5446800"/>
            <a:ext cx="6497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  しん　      お　　　　　 とき　　　 　  　　 　　  お            　 　　　　　　　 たお                    　　　　  　い   どう                        　   ば　しょ　　　き　けん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4"/>
          <p:cNvSpPr/>
          <p:nvPr/>
        </p:nvSpPr>
        <p:spPr>
          <a:xfrm>
            <a:off x="0" y="788976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⑦</a:t>
            </a: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緊急地震速報を聞いた時、短い時間で安全な場所へ移動して身を守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58"/>
          <p:cNvSpPr/>
          <p:nvPr/>
        </p:nvSpPr>
        <p:spPr>
          <a:xfrm>
            <a:off x="115920" y="7812000"/>
            <a:ext cx="6465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きんきゅう じ  しん そく ほう    　   き　   　　    とき　    みじか       じ   かん        あん ぜん　      ば　しょ　 　  い   どう　　　       み　　　ま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4"/>
          <p:cNvSpPr/>
          <p:nvPr/>
        </p:nvSpPr>
        <p:spPr>
          <a:xfrm>
            <a:off x="0" y="130644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①</a:t>
            </a: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地震が起きた時、どのようなことが起きるのか知っ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線コネクタ 55"/>
          <p:cNvSpPr/>
          <p:nvPr/>
        </p:nvSpPr>
        <p:spPr>
          <a:xfrm>
            <a:off x="44280" y="2131920"/>
            <a:ext cx="6769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テキスト ボックス 55"/>
          <p:cNvSpPr/>
          <p:nvPr/>
        </p:nvSpPr>
        <p:spPr>
          <a:xfrm>
            <a:off x="189000" y="1231920"/>
            <a:ext cx="6119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  しん　      お　 　　　   とき　　 　　  　　　　   　 　　　　　　　　　　 お 　 　 　　　　　    　 し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テキスト ボックス 4"/>
          <p:cNvSpPr/>
          <p:nvPr/>
        </p:nvSpPr>
        <p:spPr>
          <a:xfrm>
            <a:off x="174600" y="1752480"/>
            <a:ext cx="648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よく知っている　　すこし知っている　　どちらでもない　　あまり知らない　　知ら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テキスト ボックス 4"/>
          <p:cNvSpPr/>
          <p:nvPr/>
        </p:nvSpPr>
        <p:spPr>
          <a:xfrm>
            <a:off x="189000" y="1685880"/>
            <a:ext cx="6480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　　 し　　　　　　　　　　　　　　　　　　　し　　　　　　　　　　　　　　　　　　　　　　　　　　　　　　　　　　　　　し　　　　　　　　　　　し                           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テキスト ボックス 4"/>
          <p:cNvSpPr/>
          <p:nvPr/>
        </p:nvSpPr>
        <p:spPr>
          <a:xfrm>
            <a:off x="189000" y="6048360"/>
            <a:ext cx="64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そう思う　　ややそう思う　　どちらでもない　　あまりそう思わない　　そう思わ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テキスト ボックス 4"/>
          <p:cNvSpPr/>
          <p:nvPr/>
        </p:nvSpPr>
        <p:spPr>
          <a:xfrm>
            <a:off x="219240" y="5981760"/>
            <a:ext cx="6480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　  おも　                                       おも　　　　　　　　　　　　　　　　　　　　　　　　　　　　　　　　　　おも　　　　　　　　　　　　　　おも　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テキスト ボックス 4"/>
          <p:cNvSpPr/>
          <p:nvPr/>
        </p:nvSpPr>
        <p:spPr>
          <a:xfrm>
            <a:off x="189000" y="7327800"/>
            <a:ext cx="64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そう思う　　ややそう思う　　どちらでもない　　あまりそう思わない　　そう思わ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テキスト ボックス 4"/>
          <p:cNvSpPr/>
          <p:nvPr/>
        </p:nvSpPr>
        <p:spPr>
          <a:xfrm>
            <a:off x="222120" y="7257960"/>
            <a:ext cx="6480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　  おも　                                       おも　　　　　　　　　　　　　　　　　　　　　　　　　　　　　　　　　　おも　　　　　　　　　　　　　　おも　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テキスト ボックス 4"/>
          <p:cNvSpPr/>
          <p:nvPr/>
        </p:nvSpPr>
        <p:spPr>
          <a:xfrm>
            <a:off x="189000" y="8424720"/>
            <a:ext cx="64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そう思う　　ややそう思う　　どちらでもない　　あまりそう思わない　　そう思わ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テキスト ボックス 4"/>
          <p:cNvSpPr/>
          <p:nvPr/>
        </p:nvSpPr>
        <p:spPr>
          <a:xfrm>
            <a:off x="222120" y="8358120"/>
            <a:ext cx="6480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　  おも　                                       おも　　　　　　　　　　　　　　　　　　　　　　　　　　　　　　　　　　おも　　　　　　　　　　　　　　おも　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テキスト ボックス 4"/>
          <p:cNvSpPr/>
          <p:nvPr/>
        </p:nvSpPr>
        <p:spPr>
          <a:xfrm>
            <a:off x="189000" y="9504360"/>
            <a:ext cx="64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そう思う　　ややそう思う　　どちらでもない　　あまりそう思わない　　そう思わ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テキスト ボックス 4"/>
          <p:cNvSpPr/>
          <p:nvPr/>
        </p:nvSpPr>
        <p:spPr>
          <a:xfrm>
            <a:off x="209520" y="9437760"/>
            <a:ext cx="6480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　  おも　                                       おも　　　　　　　　　　　　　　　　　　　　　　　　　　　　　　　　　　おも　　　　　　　　　　　　　　おも　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テキスト ボックス 4"/>
          <p:cNvSpPr/>
          <p:nvPr/>
        </p:nvSpPr>
        <p:spPr>
          <a:xfrm>
            <a:off x="-14400" y="3251160"/>
            <a:ext cx="6872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③</a:t>
            </a: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緊急地震速報を聞いた時、どのようなことが起きるのか知っ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テキスト ボックス 50"/>
          <p:cNvSpPr/>
          <p:nvPr/>
        </p:nvSpPr>
        <p:spPr>
          <a:xfrm>
            <a:off x="115920" y="3292560"/>
            <a:ext cx="6119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きん きゅう じ  しん そく ほう 　     き    　　　   とき                 　　                                       　お　　　　　　　　　　  し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4"/>
          <p:cNvSpPr/>
          <p:nvPr/>
        </p:nvSpPr>
        <p:spPr>
          <a:xfrm>
            <a:off x="0" y="231444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②</a:t>
            </a: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地震が起きた時、正しい身の守り方を知っ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55"/>
          <p:cNvSpPr/>
          <p:nvPr/>
        </p:nvSpPr>
        <p:spPr>
          <a:xfrm>
            <a:off x="189000" y="2239920"/>
            <a:ext cx="6119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  しん　      お　   　　　 とき　  　ただ   　　　 　 み   　   まも　　  かた     　 し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60"/>
          <p:cNvSpPr/>
          <p:nvPr/>
        </p:nvSpPr>
        <p:spPr>
          <a:xfrm>
            <a:off x="220680" y="6829560"/>
            <a:ext cx="630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ゆ　　　　　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線コネクタ 50"/>
          <p:cNvSpPr/>
          <p:nvPr/>
        </p:nvSpPr>
        <p:spPr>
          <a:xfrm>
            <a:off x="44280" y="1109520"/>
            <a:ext cx="6769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6T01:28:34Z</dcterms:created>
  <dc:creator>reo</dc:creator>
  <dc:description/>
  <dc:language>en-US</dc:language>
  <cp:lastModifiedBy>気象庁</cp:lastModifiedBy>
  <dcterms:modified xsi:type="dcterms:W3CDTF">2017-05-24T00:19:59Z</dcterms:modified>
  <cp:revision>133</cp:revision>
  <dc:subject/>
  <dc:title>スライド 1</dc:title>
</cp:coreProperties>
</file>