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2E1-FCC5-42E1-86D4-6C5BB80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5EB-9BDF-40DA-A77C-F42F892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BA8-90EE-4732-95EA-250B2252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56D-3D29-4DAD-9AD9-050700F7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124-432C-4048-87AC-A822570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6C1-11F4-4ECE-BDFA-6C3EAC9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E4B-0476-4207-B597-EEA68D0A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23A-1C64-4A1F-8F48-B71682B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DC5-0290-4675-895B-4DA071E5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D9C-7E5B-40E1-B96A-3D60177F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A91-B0B5-4C1B-BEBF-A7BB90A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467-20ED-4ED8-9DEC-F821BC1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9BAC-089F-47E9-9D4B-18F7FB6DFD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52560" y="154080"/>
            <a:ext cx="27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訓練をふりか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-3240" y="5884920"/>
            <a:ext cx="681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あなたは訓練がはじまったときに、どこにいました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28440" y="6192720"/>
            <a:ext cx="6785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112680" y="73080"/>
            <a:ext cx="11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4"/>
          <p:cNvSpPr/>
          <p:nvPr/>
        </p:nvSpPr>
        <p:spPr>
          <a:xfrm>
            <a:off x="1052640" y="5805360"/>
            <a:ext cx="1473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んれん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63"/>
          <p:cNvSpPr/>
          <p:nvPr/>
        </p:nvSpPr>
        <p:spPr>
          <a:xfrm>
            <a:off x="28440" y="7291440"/>
            <a:ext cx="6785280" cy="26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0" y="13096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34"/>
          <p:cNvSpPr/>
          <p:nvPr/>
        </p:nvSpPr>
        <p:spPr>
          <a:xfrm>
            <a:off x="441360" y="1230480"/>
            <a:ext cx="1474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3"/>
          <p:cNvSpPr/>
          <p:nvPr/>
        </p:nvSpPr>
        <p:spPr>
          <a:xfrm>
            <a:off x="5674320" y="989316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44280" y="1689120"/>
            <a:ext cx="671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や放送を、だまって静かに聞く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4"/>
          <p:cNvSpPr/>
          <p:nvPr/>
        </p:nvSpPr>
        <p:spPr>
          <a:xfrm>
            <a:off x="44280" y="286056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のチャイム音を聞いた時、何をしたらよいか考えること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4"/>
          <p:cNvSpPr/>
          <p:nvPr/>
        </p:nvSpPr>
        <p:spPr>
          <a:xfrm>
            <a:off x="44280" y="4913280"/>
            <a:ext cx="67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安全な場所に移動するとき、「お・か・し・も・ち」のルールが守れ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4"/>
          <p:cNvSpPr/>
          <p:nvPr/>
        </p:nvSpPr>
        <p:spPr>
          <a:xfrm>
            <a:off x="441360" y="221148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106"/>
          <p:cNvSpPr/>
          <p:nvPr/>
        </p:nvSpPr>
        <p:spPr>
          <a:xfrm>
            <a:off x="25560" y="28440"/>
            <a:ext cx="2736720" cy="60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"/>
          <p:cNvSpPr/>
          <p:nvPr/>
        </p:nvSpPr>
        <p:spPr>
          <a:xfrm>
            <a:off x="2492280" y="900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878200" y="792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くみ　　     　　な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3"/>
          <p:cNvSpPr/>
          <p:nvPr/>
        </p:nvSpPr>
        <p:spPr>
          <a:xfrm>
            <a:off x="5293080" y="23760"/>
            <a:ext cx="130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３　地震対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事後学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16"/>
          <p:cNvSpPr/>
          <p:nvPr/>
        </p:nvSpPr>
        <p:spPr>
          <a:xfrm>
            <a:off x="28440" y="1631880"/>
            <a:ext cx="6785280" cy="4129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線コネクタ 118"/>
          <p:cNvSpPr/>
          <p:nvPr/>
        </p:nvSpPr>
        <p:spPr>
          <a:xfrm>
            <a:off x="44280" y="267192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0"/>
          <p:cNvSpPr/>
          <p:nvPr/>
        </p:nvSpPr>
        <p:spPr>
          <a:xfrm>
            <a:off x="333360" y="177480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　 　 　　　　　　　　      おん         ほうそう　　　　　　　   　　　　　　　しず　　　　     き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0"/>
          <p:cNvSpPr/>
          <p:nvPr/>
        </p:nvSpPr>
        <p:spPr>
          <a:xfrm>
            <a:off x="333360" y="2827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じしんそくほう　  　　                          　  おん          き　   　　　  とき         なに　 　   　　　　　　　　 　　　　　かん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441360" y="3292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0"/>
          <p:cNvSpPr/>
          <p:nvPr/>
        </p:nvSpPr>
        <p:spPr>
          <a:xfrm>
            <a:off x="260280" y="4870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んぜん 　　　ばしょ　 　   　いどう　　　　　　　　　　　　　　　   　　　　　　　　　　　　　　　　　　　　　　　　　　　　　　  　 　        まも　　　　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441360" y="5308560"/>
            <a:ext cx="63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線コネクタ 130"/>
          <p:cNvSpPr/>
          <p:nvPr/>
        </p:nvSpPr>
        <p:spPr>
          <a:xfrm>
            <a:off x="44280" y="371160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コネクタ 131"/>
          <p:cNvSpPr/>
          <p:nvPr/>
        </p:nvSpPr>
        <p:spPr>
          <a:xfrm>
            <a:off x="44280" y="4751280"/>
            <a:ext cx="676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"/>
          <p:cNvSpPr/>
          <p:nvPr/>
        </p:nvSpPr>
        <p:spPr>
          <a:xfrm>
            <a:off x="44280" y="3902040"/>
            <a:ext cx="67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 </a:t>
            </a: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慌てずに、自分で考えて、地震から身を守る行動ができました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0"/>
          <p:cNvSpPr/>
          <p:nvPr/>
        </p:nvSpPr>
        <p:spPr>
          <a:xfrm>
            <a:off x="260280" y="3862440"/>
            <a:ext cx="6120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あわ　　　　　　　　　 　 じぶん　　   かんが　　    　　　     じしん 　       　      み　　　まも　　　こうどう　　　　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4"/>
          <p:cNvSpPr/>
          <p:nvPr/>
        </p:nvSpPr>
        <p:spPr>
          <a:xfrm>
            <a:off x="441360" y="4300560"/>
            <a:ext cx="61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てもよくできた　・　できた　・　あまりよくできなかった　・　できなかった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-3240" y="6980400"/>
            <a:ext cx="68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．あなたはその時、どのように身を守りましたか。なぜ、そうしたのです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4"/>
          <p:cNvSpPr/>
          <p:nvPr/>
        </p:nvSpPr>
        <p:spPr>
          <a:xfrm>
            <a:off x="1397160" y="6912000"/>
            <a:ext cx="3268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き　　　　　　　　　　　　　　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52"/>
          <p:cNvSpPr/>
          <p:nvPr/>
        </p:nvSpPr>
        <p:spPr>
          <a:xfrm>
            <a:off x="154080" y="72723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どの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3"/>
          <p:cNvSpPr/>
          <p:nvPr/>
        </p:nvSpPr>
        <p:spPr>
          <a:xfrm>
            <a:off x="69840" y="8569440"/>
            <a:ext cx="674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正方形/長方形 54"/>
          <p:cNvSpPr/>
          <p:nvPr/>
        </p:nvSpPr>
        <p:spPr>
          <a:xfrm>
            <a:off x="102960" y="8569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な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6-08-19T01:16:00Z</cp:lastPrinted>
  <dcterms:modified xsi:type="dcterms:W3CDTF">2017-03-14T05:11:30Z</dcterms:modified>
  <cp:revision>100</cp:revision>
  <dc:subject/>
  <dc:title>スライド 1</dc:title>
</cp:coreProperties>
</file>