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EBB-8DDC-47CC-BFE8-FEAA97D7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E14-6F15-4DF2-9811-66A3C60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517-07CA-4B71-830A-2346A288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0EC-B137-4286-B18A-397C158C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13E-3207-4DA0-B4BE-559A0A58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F65-3273-4EEA-A74B-F0A511A6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1B5-4F78-4B04-B9A6-57C4AF27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FB1-EAFF-4373-B4B1-2EBE8BA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227-E6CF-40B2-BB5C-6FAAF97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146-F2E0-40D6-89D2-B933FE0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873-8543-467F-A7BF-1CE8EE8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AD1-4F31-4BC8-B3F5-547F63D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344160"/>
            <a:ext cx="21715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344160"/>
            <a:ext cx="16002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BEA-15BA-4B13-85D9-199CAE1A97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3"/>
          <p:cNvSpPr/>
          <p:nvPr/>
        </p:nvSpPr>
        <p:spPr>
          <a:xfrm>
            <a:off x="115920" y="169920"/>
            <a:ext cx="20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アンケー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0" y="7714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．自分にあてはまるところに○をつけ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106"/>
          <p:cNvSpPr/>
          <p:nvPr/>
        </p:nvSpPr>
        <p:spPr>
          <a:xfrm>
            <a:off x="44280" y="15840"/>
            <a:ext cx="2060640" cy="631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3"/>
          <p:cNvSpPr/>
          <p:nvPr/>
        </p:nvSpPr>
        <p:spPr>
          <a:xfrm>
            <a:off x="2205000" y="3398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丸ｺﾞｼｯｸM-PRO"/>
                <a:ea typeface="HG丸ｺﾞｼｯｸM-PRO"/>
              </a:rPr>
              <a:t>　　年　　組　   番　名前（　　　　　　　　　　　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線コネクタ 118"/>
          <p:cNvSpPr/>
          <p:nvPr/>
        </p:nvSpPr>
        <p:spPr>
          <a:xfrm>
            <a:off x="189000" y="314784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線コネクタ 41"/>
          <p:cNvSpPr/>
          <p:nvPr/>
        </p:nvSpPr>
        <p:spPr>
          <a:xfrm>
            <a:off x="189000" y="422424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線コネクタ 51"/>
          <p:cNvSpPr/>
          <p:nvPr/>
        </p:nvSpPr>
        <p:spPr>
          <a:xfrm>
            <a:off x="189000" y="530532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線コネクタ 56"/>
          <p:cNvSpPr/>
          <p:nvPr/>
        </p:nvSpPr>
        <p:spPr>
          <a:xfrm>
            <a:off x="189000" y="63705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線コネクタ 61"/>
          <p:cNvSpPr/>
          <p:nvPr/>
        </p:nvSpPr>
        <p:spPr>
          <a:xfrm>
            <a:off x="189000" y="74484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44280" y="876456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⑧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（ﾁｬｲﾑ音）や地震の揺れを感じた時、自分で考えて自分の身を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コネクタ 67"/>
          <p:cNvSpPr/>
          <p:nvPr/>
        </p:nvSpPr>
        <p:spPr>
          <a:xfrm>
            <a:off x="189000" y="85122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72"/>
          <p:cNvSpPr/>
          <p:nvPr/>
        </p:nvSpPr>
        <p:spPr>
          <a:xfrm>
            <a:off x="189000" y="957744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3"/>
          <p:cNvSpPr/>
          <p:nvPr/>
        </p:nvSpPr>
        <p:spPr>
          <a:xfrm>
            <a:off x="5187960" y="9864720"/>
            <a:ext cx="16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熊谷地方気象台 　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Ver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7"/>
          <p:cNvSpPr/>
          <p:nvPr/>
        </p:nvSpPr>
        <p:spPr>
          <a:xfrm>
            <a:off x="104760" y="49320"/>
            <a:ext cx="11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し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4"/>
          <p:cNvSpPr/>
          <p:nvPr/>
        </p:nvSpPr>
        <p:spPr>
          <a:xfrm>
            <a:off x="441360" y="692280"/>
            <a:ext cx="14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ぶ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40"/>
          <p:cNvSpPr/>
          <p:nvPr/>
        </p:nvSpPr>
        <p:spPr>
          <a:xfrm>
            <a:off x="2565360" y="19368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ねん　　　くみ　　　 ばん　　なま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58"/>
          <p:cNvSpPr/>
          <p:nvPr/>
        </p:nvSpPr>
        <p:spPr>
          <a:xfrm>
            <a:off x="189000" y="8672400"/>
            <a:ext cx="649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 じ  しん そく ほう    　  　　　　 おん　　　　 　じ   しん　　   ゆ  　      　　かん    　　　 とき     　  じ   ぶん　   かんが               じ　ぶん      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189000" y="282564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4"/>
          <p:cNvSpPr/>
          <p:nvPr/>
        </p:nvSpPr>
        <p:spPr>
          <a:xfrm>
            <a:off x="203040" y="275904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4"/>
          <p:cNvSpPr/>
          <p:nvPr/>
        </p:nvSpPr>
        <p:spPr>
          <a:xfrm>
            <a:off x="189000" y="392112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4"/>
          <p:cNvSpPr/>
          <p:nvPr/>
        </p:nvSpPr>
        <p:spPr>
          <a:xfrm>
            <a:off x="203040" y="385452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4"/>
          <p:cNvSpPr/>
          <p:nvPr/>
        </p:nvSpPr>
        <p:spPr>
          <a:xfrm>
            <a:off x="189000" y="497844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"/>
          <p:cNvSpPr/>
          <p:nvPr/>
        </p:nvSpPr>
        <p:spPr>
          <a:xfrm>
            <a:off x="203040" y="4911840"/>
            <a:ext cx="6480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44280" y="44402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（ﾁｬｲﾑ音）を聞いた時、何をすればよいの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57"/>
          <p:cNvSpPr/>
          <p:nvPr/>
        </p:nvSpPr>
        <p:spPr>
          <a:xfrm>
            <a:off x="204840" y="435780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 きゅう じ  しん そく ほう 　   　　　　  おん　               　  　　　   とき　      なに　　　      　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44280" y="66038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⑥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姿勢を低くし、頭や体を守り、揺れが収まるまでじっと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60"/>
          <p:cNvSpPr/>
          <p:nvPr/>
        </p:nvSpPr>
        <p:spPr>
          <a:xfrm>
            <a:off x="117360" y="651672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   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 しん  　     お　       　   とき         し   せい　 　 ひく　          　　 あたま　  からだ      まも       　    　ゆ　　　　　 おさ　　  　　　　   　　　　　　　　　　　　　　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"/>
          <p:cNvSpPr/>
          <p:nvPr/>
        </p:nvSpPr>
        <p:spPr>
          <a:xfrm>
            <a:off x="44280" y="553716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ものが落ちてくる・倒れてくる・移動してくる場所は危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54"/>
          <p:cNvSpPr/>
          <p:nvPr/>
        </p:nvSpPr>
        <p:spPr>
          <a:xfrm>
            <a:off x="260280" y="5472000"/>
            <a:ext cx="6497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しん　       お　 　　　　 とき　　　 　 　　 　　  お            　 　　　　　　　 たお                     　　　　  　い どう                         　   ば　しょ　　　き　けん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4280" y="768492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⑦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（ﾁｬｲﾑ音）を聞いた時、短い時間で安全な場所へ移動して身を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58"/>
          <p:cNvSpPr/>
          <p:nvPr/>
        </p:nvSpPr>
        <p:spPr>
          <a:xfrm>
            <a:off x="189000" y="7593120"/>
            <a:ext cx="6465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きゅう じ  しん そく ほう    　  　　　    おん　             き　   　　    とき　    みじか        じ   かん       あん  ぜん　     ば　しょ　 　　い  どう　　　        み　　　ま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44280" y="13064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どのようなことが起きるのか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線コネクタ 55"/>
          <p:cNvSpPr/>
          <p:nvPr/>
        </p:nvSpPr>
        <p:spPr>
          <a:xfrm>
            <a:off x="189000" y="20955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55"/>
          <p:cNvSpPr/>
          <p:nvPr/>
        </p:nvSpPr>
        <p:spPr>
          <a:xfrm>
            <a:off x="260280" y="122400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しん　        お　 　　　　とき　　 　　  　　　　　　 　　　　　　　　　　お 　 　 　　　　　    　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74600" y="1752480"/>
            <a:ext cx="648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よく知っている　　すこし知っている　　どちらでもない　　あまり知らない　　知ら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テキスト ボックス 4"/>
          <p:cNvSpPr/>
          <p:nvPr/>
        </p:nvSpPr>
        <p:spPr>
          <a:xfrm>
            <a:off x="189000" y="1685880"/>
            <a:ext cx="6480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　 し　　　　　　　　　　　　　　　　　　　し　　　　　　　　　　　　　　　　　　　　　　　　　　　　　　　　　　　　　し　　　　　　　　　　　し                    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テキスト ボックス 4"/>
          <p:cNvSpPr/>
          <p:nvPr/>
        </p:nvSpPr>
        <p:spPr>
          <a:xfrm>
            <a:off x="189000" y="604368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テキスト ボックス 4"/>
          <p:cNvSpPr/>
          <p:nvPr/>
        </p:nvSpPr>
        <p:spPr>
          <a:xfrm>
            <a:off x="203040" y="597708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テキスト ボックス 4"/>
          <p:cNvSpPr/>
          <p:nvPr/>
        </p:nvSpPr>
        <p:spPr>
          <a:xfrm>
            <a:off x="189000" y="71229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4"/>
          <p:cNvSpPr/>
          <p:nvPr/>
        </p:nvSpPr>
        <p:spPr>
          <a:xfrm>
            <a:off x="203040" y="705636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テキスト ボックス 4"/>
          <p:cNvSpPr/>
          <p:nvPr/>
        </p:nvSpPr>
        <p:spPr>
          <a:xfrm>
            <a:off x="189000" y="814716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4"/>
          <p:cNvSpPr/>
          <p:nvPr/>
        </p:nvSpPr>
        <p:spPr>
          <a:xfrm>
            <a:off x="203040" y="808020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4"/>
          <p:cNvSpPr/>
          <p:nvPr/>
        </p:nvSpPr>
        <p:spPr>
          <a:xfrm>
            <a:off x="189000" y="9226440"/>
            <a:ext cx="64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そう思う　　ややそう思う　　どちらでもない　　あまりそう思わない　　そう思わ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4"/>
          <p:cNvSpPr/>
          <p:nvPr/>
        </p:nvSpPr>
        <p:spPr>
          <a:xfrm>
            <a:off x="203040" y="9159840"/>
            <a:ext cx="6480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　　　  おも　                                       おも　　　　　　　　　　　　　　　　　　　　　　　　　　　　　　　　　　おも　　　　　　　　　　　　　　おも　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4"/>
          <p:cNvSpPr/>
          <p:nvPr/>
        </p:nvSpPr>
        <p:spPr>
          <a:xfrm>
            <a:off x="60480" y="3314880"/>
            <a:ext cx="671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緊急地震速報とは、どのようなものか知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50"/>
          <p:cNvSpPr/>
          <p:nvPr/>
        </p:nvSpPr>
        <p:spPr>
          <a:xfrm>
            <a:off x="204840" y="3355920"/>
            <a:ext cx="6119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きん きゅう じ  しん そく ほう 　                          　　                                        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4"/>
          <p:cNvSpPr/>
          <p:nvPr/>
        </p:nvSpPr>
        <p:spPr>
          <a:xfrm>
            <a:off x="44280" y="2314440"/>
            <a:ext cx="68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地震が起きた時、正しい身の守り方を知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55"/>
          <p:cNvSpPr/>
          <p:nvPr/>
        </p:nvSpPr>
        <p:spPr>
          <a:xfrm>
            <a:off x="260280" y="2232000"/>
            <a:ext cx="6120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じ  しん　       お　   　　　 とき　  　ただ  　　　 　 み 　　  まも　　   かた     　 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6T01:28:34Z</dcterms:created>
  <dc:creator>reo</dc:creator>
  <dc:description/>
  <dc:language>en-US</dc:language>
  <cp:lastModifiedBy>気象庁</cp:lastModifiedBy>
  <dcterms:modified xsi:type="dcterms:W3CDTF">2017-03-14T05:03:47Z</dcterms:modified>
  <cp:revision>127</cp:revision>
  <dc:subject/>
  <dc:title>スライド 1</dc:title>
</cp:coreProperties>
</file>